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2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5C6-4926-4885-948A-EF679E83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10FE-333E-4847-B5ED-31702DFA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5FA4-B80D-430F-9D30-A92A68F9D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0BB-235B-4AD9-935A-53475AAE4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31CE7-4DF4-4F51-860A-CD9612AA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9739-7848-4EB0-9D84-B360D209E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D6D0-98BF-44FE-B3D5-BEDEA301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AC7D-EB2F-4BEE-8A65-4F6BAD6B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69AC7-55AF-460D-9CBE-EEFFF99A5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5B87-41A0-457C-A2A4-4DBE1F12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6BF6-F32A-4237-B252-4E9EBB39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6662-4033-410E-B956-95C2D456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2BD7-D0BF-4196-A21E-1824A65E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67BC7-5D95-490A-8F2F-CDE14DBD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6D6C-9FC1-499D-AB59-06C80939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B54A3-6AD7-4C54-8D91-BCE61B7CB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0366-764C-467B-AB62-5FD275DD4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6CE3-FD7A-4A7B-A21E-B3D40073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02A-0083-4296-B4CF-385C9379A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8DB-47EF-4C05-8883-1117C159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D3A-5B04-4284-B54B-FCE62D69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7631-8949-44E2-AA86-64086F21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EA7-226C-41E3-A52D-9CEB1C04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1533-06FC-4CE2-809E-ABA6AB25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750C-9A25-48F4-A59F-AA2FEBCDDB56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0132-E61F-4B10-ADE6-A5BE31FE7B14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3.pn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3.png"/><Relationship Id="rId8" Type="http://schemas.openxmlformats.org/officeDocument/2006/relationships/image" Target="../media/image19.jpe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492120" y="1025640"/>
            <a:ext cx="8256600" cy="25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464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Instalaciones Frigoríficas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6464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336464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336464"/>
                </a:solidFill>
                <a:latin typeface="Arial"/>
              </a:rPr>
              <a:t>Climatización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	</a:t>
            </a: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	</a:t>
            </a: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	</a:t>
            </a:r>
            <a:r>
              <a:rPr b="0" lang="es-ES_tradnl" sz="3300" spc="-1" strike="noStrike">
                <a:solidFill>
                  <a:srgbClr val="336464"/>
                </a:solidFill>
                <a:latin typeface="Arial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336464"/>
                </a:solidFill>
                <a:latin typeface="Arial"/>
                <a:ea typeface="Times New Roman"/>
              </a:rPr>
              <a:t>Ventil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1769040" y="3870000"/>
            <a:ext cx="567936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Arial"/>
                <a:ea typeface="Times New Roman"/>
              </a:rPr>
              <a:t>Uso del puente de manómetro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038320" y="549360"/>
            <a:ext cx="50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464"/>
                </a:solidFill>
                <a:latin typeface="Arial"/>
              </a:rPr>
              <a:t>Práctica Básica Nº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155880" y="2492280"/>
            <a:ext cx="4036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spcBef>
                <a:spcPts val="825"/>
              </a:spcBef>
              <a:spcAft>
                <a:spcPts val="8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300" spc="-1" strike="noStrike">
                <a:solidFill>
                  <a:srgbClr val="336464"/>
                </a:solidFill>
                <a:latin typeface="Arial"/>
              </a:rPr>
              <a:t>-Instalaciones d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6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Rectangle 5"/>
          <p:cNvSpPr/>
          <p:nvPr/>
        </p:nvSpPr>
        <p:spPr>
          <a:xfrm>
            <a:off x="355320" y="475920"/>
            <a:ext cx="8395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álvulas de comunicación en las cám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l puente de manó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68360" y="2021400"/>
            <a:ext cx="813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s Válvulas abiertas, comunican todas las cáma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468360" y="2446200"/>
            <a:ext cx="8207280" cy="36640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0"/>
          <p:cNvSpPr/>
          <p:nvPr/>
        </p:nvSpPr>
        <p:spPr>
          <a:xfrm>
            <a:off x="763560" y="1711440"/>
            <a:ext cx="769608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1333440" y="3143160"/>
            <a:ext cx="6693120" cy="29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2"/>
          <p:cNvSpPr/>
          <p:nvPr/>
        </p:nvSpPr>
        <p:spPr>
          <a:xfrm>
            <a:off x="4067280" y="6165720"/>
            <a:ext cx="718920" cy="576360"/>
          </a:xfrm>
          <a:custGeom>
            <a:avLst/>
            <a:gdLst>
              <a:gd name="textAreaLeft" fmla="*/ 0 w 718920"/>
              <a:gd name="textAreaRight" fmla="*/ 719280 w 7189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133" h="907">
                <a:moveTo>
                  <a:pt x="906" y="518"/>
                </a:moveTo>
                <a:lnTo>
                  <a:pt x="906" y="389"/>
                </a:lnTo>
                <a:lnTo>
                  <a:pt x="679" y="389"/>
                </a:lnTo>
                <a:lnTo>
                  <a:pt x="679" y="648"/>
                </a:lnTo>
                <a:lnTo>
                  <a:pt x="793" y="648"/>
                </a:lnTo>
                <a:lnTo>
                  <a:pt x="566" y="907"/>
                </a:lnTo>
                <a:lnTo>
                  <a:pt x="340" y="648"/>
                </a:lnTo>
                <a:lnTo>
                  <a:pt x="454" y="648"/>
                </a:lnTo>
                <a:lnTo>
                  <a:pt x="454" y="389"/>
                </a:lnTo>
                <a:lnTo>
                  <a:pt x="227" y="389"/>
                </a:lnTo>
                <a:lnTo>
                  <a:pt x="227" y="518"/>
                </a:lnTo>
                <a:lnTo>
                  <a:pt x="0" y="259"/>
                </a:lnTo>
                <a:lnTo>
                  <a:pt x="227" y="0"/>
                </a:lnTo>
                <a:lnTo>
                  <a:pt x="227" y="130"/>
                </a:lnTo>
                <a:lnTo>
                  <a:pt x="906" y="130"/>
                </a:lnTo>
                <a:lnTo>
                  <a:pt x="906" y="0"/>
                </a:lnTo>
                <a:lnTo>
                  <a:pt x="1133" y="259"/>
                </a:lnTo>
                <a:lnTo>
                  <a:pt x="906" y="518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3"/>
          <p:cNvSpPr/>
          <p:nvPr/>
        </p:nvSpPr>
        <p:spPr>
          <a:xfrm>
            <a:off x="4051440" y="6165720"/>
            <a:ext cx="718920" cy="576360"/>
          </a:xfrm>
          <a:custGeom>
            <a:avLst/>
            <a:gdLst>
              <a:gd name="textAreaLeft" fmla="*/ 0 w 718920"/>
              <a:gd name="textAreaRight" fmla="*/ 719280 w 7189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133" h="907">
                <a:moveTo>
                  <a:pt x="566" y="907"/>
                </a:moveTo>
                <a:lnTo>
                  <a:pt x="340" y="648"/>
                </a:lnTo>
                <a:lnTo>
                  <a:pt x="454" y="648"/>
                </a:lnTo>
                <a:lnTo>
                  <a:pt x="454" y="389"/>
                </a:lnTo>
                <a:lnTo>
                  <a:pt x="227" y="389"/>
                </a:lnTo>
                <a:lnTo>
                  <a:pt x="227" y="518"/>
                </a:lnTo>
                <a:lnTo>
                  <a:pt x="0" y="259"/>
                </a:lnTo>
                <a:lnTo>
                  <a:pt x="227" y="0"/>
                </a:lnTo>
                <a:lnTo>
                  <a:pt x="227" y="130"/>
                </a:lnTo>
                <a:lnTo>
                  <a:pt x="906" y="130"/>
                </a:lnTo>
                <a:lnTo>
                  <a:pt x="906" y="0"/>
                </a:lnTo>
                <a:lnTo>
                  <a:pt x="1133" y="259"/>
                </a:lnTo>
                <a:lnTo>
                  <a:pt x="906" y="518"/>
                </a:lnTo>
                <a:lnTo>
                  <a:pt x="906" y="389"/>
                </a:lnTo>
                <a:lnTo>
                  <a:pt x="679" y="389"/>
                </a:lnTo>
                <a:lnTo>
                  <a:pt x="679" y="648"/>
                </a:lnTo>
                <a:lnTo>
                  <a:pt x="793" y="648"/>
                </a:lnTo>
                <a:lnTo>
                  <a:pt x="566" y="907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4"/>
          <p:cNvSpPr/>
          <p:nvPr/>
        </p:nvSpPr>
        <p:spPr>
          <a:xfrm>
            <a:off x="2900520" y="3860640"/>
            <a:ext cx="718920" cy="287640"/>
          </a:xfrm>
          <a:custGeom>
            <a:avLst/>
            <a:gdLst>
              <a:gd name="textAreaLeft" fmla="*/ 0 w 718920"/>
              <a:gd name="textAreaRight" fmla="*/ 719280 w 7189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132" h="452">
                <a:moveTo>
                  <a:pt x="906" y="452"/>
                </a:moveTo>
                <a:lnTo>
                  <a:pt x="906" y="339"/>
                </a:lnTo>
                <a:lnTo>
                  <a:pt x="226" y="339"/>
                </a:lnTo>
                <a:lnTo>
                  <a:pt x="226" y="452"/>
                </a:lnTo>
                <a:lnTo>
                  <a:pt x="0" y="225"/>
                </a:lnTo>
                <a:lnTo>
                  <a:pt x="226" y="0"/>
                </a:lnTo>
                <a:lnTo>
                  <a:pt x="226" y="113"/>
                </a:lnTo>
                <a:lnTo>
                  <a:pt x="906" y="113"/>
                </a:lnTo>
                <a:lnTo>
                  <a:pt x="906" y="0"/>
                </a:lnTo>
                <a:lnTo>
                  <a:pt x="1132" y="225"/>
                </a:lnTo>
                <a:lnTo>
                  <a:pt x="906" y="452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15"/>
          <p:cNvSpPr/>
          <p:nvPr/>
        </p:nvSpPr>
        <p:spPr>
          <a:xfrm>
            <a:off x="2900520" y="3860640"/>
            <a:ext cx="718920" cy="287640"/>
          </a:xfrm>
          <a:custGeom>
            <a:avLst/>
            <a:gdLst>
              <a:gd name="textAreaLeft" fmla="*/ 0 w 718920"/>
              <a:gd name="textAreaRight" fmla="*/ 719280 w 7189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132" h="452">
                <a:moveTo>
                  <a:pt x="0" y="225"/>
                </a:moveTo>
                <a:lnTo>
                  <a:pt x="226" y="452"/>
                </a:lnTo>
                <a:lnTo>
                  <a:pt x="226" y="339"/>
                </a:lnTo>
                <a:lnTo>
                  <a:pt x="906" y="339"/>
                </a:lnTo>
                <a:lnTo>
                  <a:pt x="906" y="452"/>
                </a:lnTo>
                <a:lnTo>
                  <a:pt x="1132" y="225"/>
                </a:lnTo>
                <a:lnTo>
                  <a:pt x="906" y="0"/>
                </a:lnTo>
                <a:lnTo>
                  <a:pt x="906" y="113"/>
                </a:lnTo>
                <a:lnTo>
                  <a:pt x="226" y="113"/>
                </a:lnTo>
                <a:lnTo>
                  <a:pt x="226" y="0"/>
                </a:lnTo>
                <a:lnTo>
                  <a:pt x="0" y="22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16"/>
          <p:cNvSpPr/>
          <p:nvPr/>
        </p:nvSpPr>
        <p:spPr>
          <a:xfrm>
            <a:off x="5187960" y="3860640"/>
            <a:ext cx="720720" cy="28764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134" h="452">
                <a:moveTo>
                  <a:pt x="907" y="452"/>
                </a:moveTo>
                <a:lnTo>
                  <a:pt x="907" y="339"/>
                </a:lnTo>
                <a:lnTo>
                  <a:pt x="227" y="339"/>
                </a:lnTo>
                <a:lnTo>
                  <a:pt x="227" y="452"/>
                </a:lnTo>
                <a:lnTo>
                  <a:pt x="0" y="226"/>
                </a:lnTo>
                <a:lnTo>
                  <a:pt x="227" y="0"/>
                </a:lnTo>
                <a:lnTo>
                  <a:pt x="227" y="112"/>
                </a:lnTo>
                <a:lnTo>
                  <a:pt x="907" y="112"/>
                </a:lnTo>
                <a:lnTo>
                  <a:pt x="907" y="0"/>
                </a:lnTo>
                <a:lnTo>
                  <a:pt x="1134" y="226"/>
                </a:lnTo>
                <a:lnTo>
                  <a:pt x="907" y="452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17"/>
          <p:cNvSpPr/>
          <p:nvPr/>
        </p:nvSpPr>
        <p:spPr>
          <a:xfrm>
            <a:off x="5187960" y="3860640"/>
            <a:ext cx="720720" cy="28764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1134" h="452">
                <a:moveTo>
                  <a:pt x="0" y="226"/>
                </a:moveTo>
                <a:lnTo>
                  <a:pt x="227" y="452"/>
                </a:lnTo>
                <a:lnTo>
                  <a:pt x="227" y="339"/>
                </a:lnTo>
                <a:lnTo>
                  <a:pt x="907" y="339"/>
                </a:lnTo>
                <a:lnTo>
                  <a:pt x="907" y="452"/>
                </a:lnTo>
                <a:lnTo>
                  <a:pt x="1134" y="226"/>
                </a:lnTo>
                <a:lnTo>
                  <a:pt x="907" y="0"/>
                </a:lnTo>
                <a:lnTo>
                  <a:pt x="907" y="112"/>
                </a:lnTo>
                <a:lnTo>
                  <a:pt x="227" y="112"/>
                </a:lnTo>
                <a:lnTo>
                  <a:pt x="227" y="0"/>
                </a:lnTo>
                <a:lnTo>
                  <a:pt x="0" y="226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18"/>
          <p:cNvSpPr/>
          <p:nvPr/>
        </p:nvSpPr>
        <p:spPr>
          <a:xfrm>
            <a:off x="2124000" y="6093000"/>
            <a:ext cx="287280" cy="57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52" h="908">
                <a:moveTo>
                  <a:pt x="225" y="908"/>
                </a:moveTo>
                <a:lnTo>
                  <a:pt x="0" y="726"/>
                </a:lnTo>
                <a:lnTo>
                  <a:pt x="112" y="726"/>
                </a:lnTo>
                <a:lnTo>
                  <a:pt x="112" y="182"/>
                </a:lnTo>
                <a:lnTo>
                  <a:pt x="0" y="182"/>
                </a:lnTo>
                <a:lnTo>
                  <a:pt x="225" y="0"/>
                </a:lnTo>
                <a:lnTo>
                  <a:pt x="452" y="182"/>
                </a:lnTo>
                <a:lnTo>
                  <a:pt x="339" y="182"/>
                </a:lnTo>
                <a:lnTo>
                  <a:pt x="339" y="726"/>
                </a:lnTo>
                <a:lnTo>
                  <a:pt x="452" y="726"/>
                </a:lnTo>
                <a:lnTo>
                  <a:pt x="225" y="908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19"/>
          <p:cNvSpPr/>
          <p:nvPr/>
        </p:nvSpPr>
        <p:spPr>
          <a:xfrm>
            <a:off x="2124000" y="6093000"/>
            <a:ext cx="287280" cy="57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52" h="908">
                <a:moveTo>
                  <a:pt x="225" y="0"/>
                </a:moveTo>
                <a:lnTo>
                  <a:pt x="452" y="182"/>
                </a:lnTo>
                <a:lnTo>
                  <a:pt x="339" y="182"/>
                </a:lnTo>
                <a:lnTo>
                  <a:pt x="339" y="726"/>
                </a:lnTo>
                <a:lnTo>
                  <a:pt x="452" y="726"/>
                </a:lnTo>
                <a:lnTo>
                  <a:pt x="225" y="908"/>
                </a:lnTo>
                <a:lnTo>
                  <a:pt x="0" y="726"/>
                </a:lnTo>
                <a:lnTo>
                  <a:pt x="112" y="726"/>
                </a:lnTo>
                <a:lnTo>
                  <a:pt x="112" y="182"/>
                </a:lnTo>
                <a:lnTo>
                  <a:pt x="0" y="182"/>
                </a:lnTo>
                <a:lnTo>
                  <a:pt x="225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20"/>
          <p:cNvSpPr/>
          <p:nvPr/>
        </p:nvSpPr>
        <p:spPr>
          <a:xfrm>
            <a:off x="6300720" y="6093000"/>
            <a:ext cx="287280" cy="57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53" h="908">
                <a:moveTo>
                  <a:pt x="227" y="908"/>
                </a:moveTo>
                <a:lnTo>
                  <a:pt x="0" y="726"/>
                </a:lnTo>
                <a:lnTo>
                  <a:pt x="114" y="726"/>
                </a:lnTo>
                <a:lnTo>
                  <a:pt x="114" y="182"/>
                </a:lnTo>
                <a:lnTo>
                  <a:pt x="0" y="182"/>
                </a:lnTo>
                <a:lnTo>
                  <a:pt x="227" y="0"/>
                </a:lnTo>
                <a:lnTo>
                  <a:pt x="453" y="182"/>
                </a:lnTo>
                <a:lnTo>
                  <a:pt x="339" y="182"/>
                </a:lnTo>
                <a:lnTo>
                  <a:pt x="339" y="726"/>
                </a:lnTo>
                <a:lnTo>
                  <a:pt x="453" y="726"/>
                </a:lnTo>
                <a:lnTo>
                  <a:pt x="227" y="908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21"/>
          <p:cNvSpPr/>
          <p:nvPr/>
        </p:nvSpPr>
        <p:spPr>
          <a:xfrm>
            <a:off x="6300720" y="6093000"/>
            <a:ext cx="287280" cy="576000"/>
          </a:xfrm>
          <a:custGeom>
            <a:avLst/>
            <a:gdLst>
              <a:gd name="textAreaLeft" fmla="*/ 0 w 287280"/>
              <a:gd name="textAreaRight" fmla="*/ 287640 w 287280"/>
              <a:gd name="textAreaTop" fmla="*/ 0 h 576000"/>
              <a:gd name="textAreaBottom" fmla="*/ 576360 h 576000"/>
            </a:gdLst>
            <a:ahLst/>
            <a:rect l="textAreaLeft" t="textAreaTop" r="textAreaRight" b="textAreaBottom"/>
            <a:pathLst>
              <a:path w="453" h="908">
                <a:moveTo>
                  <a:pt x="227" y="0"/>
                </a:moveTo>
                <a:lnTo>
                  <a:pt x="453" y="182"/>
                </a:lnTo>
                <a:lnTo>
                  <a:pt x="339" y="182"/>
                </a:lnTo>
                <a:lnTo>
                  <a:pt x="339" y="726"/>
                </a:lnTo>
                <a:lnTo>
                  <a:pt x="453" y="726"/>
                </a:lnTo>
                <a:lnTo>
                  <a:pt x="227" y="908"/>
                </a:lnTo>
                <a:lnTo>
                  <a:pt x="0" y="726"/>
                </a:lnTo>
                <a:lnTo>
                  <a:pt x="114" y="726"/>
                </a:lnTo>
                <a:lnTo>
                  <a:pt x="114" y="182"/>
                </a:lnTo>
                <a:lnTo>
                  <a:pt x="0" y="182"/>
                </a:lnTo>
                <a:lnTo>
                  <a:pt x="227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82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Rectangle 5"/>
          <p:cNvSpPr/>
          <p:nvPr/>
        </p:nvSpPr>
        <p:spPr>
          <a:xfrm>
            <a:off x="355320" y="475920"/>
            <a:ext cx="8395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álvulas de comunicación en las cám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l puente de manó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"/>
          <p:cNvPicPr/>
          <p:nvPr/>
        </p:nvPicPr>
        <p:blipFill>
          <a:blip r:embed="rId1"/>
          <a:stretch/>
        </p:blipFill>
        <p:spPr>
          <a:xfrm>
            <a:off x="1138320" y="3141720"/>
            <a:ext cx="6889680" cy="30733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6"/>
          <p:cNvSpPr/>
          <p:nvPr/>
        </p:nvSpPr>
        <p:spPr>
          <a:xfrm>
            <a:off x="324000" y="1736280"/>
            <a:ext cx="835344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álvula (1) abierta, comunica la cámara de baja presión con la de servicio: Vacío, Refrigerante,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ámara de alta presión aislada, mide la presión de alta del circuito conec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"/>
          <p:cNvSpPr/>
          <p:nvPr/>
        </p:nvSpPr>
        <p:spPr>
          <a:xfrm>
            <a:off x="1189080" y="3214800"/>
            <a:ext cx="6845400" cy="30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12"/>
          <p:cNvSpPr/>
          <p:nvPr/>
        </p:nvSpPr>
        <p:spPr>
          <a:xfrm>
            <a:off x="3133800" y="5878440"/>
            <a:ext cx="917640" cy="503280"/>
          </a:xfrm>
          <a:custGeom>
            <a:avLst/>
            <a:gdLst>
              <a:gd name="textAreaLeft" fmla="*/ 0 w 917640"/>
              <a:gd name="textAreaRight" fmla="*/ 918000 w 917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446" h="793">
                <a:moveTo>
                  <a:pt x="1181" y="793"/>
                </a:moveTo>
                <a:lnTo>
                  <a:pt x="856" y="529"/>
                </a:lnTo>
                <a:lnTo>
                  <a:pt x="1004" y="529"/>
                </a:lnTo>
                <a:lnTo>
                  <a:pt x="995" y="494"/>
                </a:lnTo>
                <a:lnTo>
                  <a:pt x="974" y="425"/>
                </a:lnTo>
                <a:lnTo>
                  <a:pt x="950" y="361"/>
                </a:lnTo>
                <a:lnTo>
                  <a:pt x="921" y="301"/>
                </a:lnTo>
                <a:lnTo>
                  <a:pt x="890" y="245"/>
                </a:lnTo>
                <a:lnTo>
                  <a:pt x="855" y="194"/>
                </a:lnTo>
                <a:lnTo>
                  <a:pt x="797" y="127"/>
                </a:lnTo>
                <a:lnTo>
                  <a:pt x="734" y="73"/>
                </a:lnTo>
                <a:lnTo>
                  <a:pt x="665" y="34"/>
                </a:lnTo>
                <a:lnTo>
                  <a:pt x="664" y="34"/>
                </a:lnTo>
                <a:lnTo>
                  <a:pt x="601" y="70"/>
                </a:lnTo>
                <a:lnTo>
                  <a:pt x="542" y="117"/>
                </a:lnTo>
                <a:lnTo>
                  <a:pt x="488" y="175"/>
                </a:lnTo>
                <a:lnTo>
                  <a:pt x="440" y="243"/>
                </a:lnTo>
                <a:lnTo>
                  <a:pt x="398" y="319"/>
                </a:lnTo>
                <a:lnTo>
                  <a:pt x="362" y="403"/>
                </a:lnTo>
                <a:lnTo>
                  <a:pt x="334" y="493"/>
                </a:lnTo>
                <a:lnTo>
                  <a:pt x="313" y="589"/>
                </a:lnTo>
                <a:lnTo>
                  <a:pt x="300" y="689"/>
                </a:lnTo>
                <a:lnTo>
                  <a:pt x="296" y="793"/>
                </a:lnTo>
                <a:lnTo>
                  <a:pt x="0" y="793"/>
                </a:lnTo>
                <a:lnTo>
                  <a:pt x="2" y="728"/>
                </a:lnTo>
                <a:lnTo>
                  <a:pt x="7" y="664"/>
                </a:lnTo>
                <a:lnTo>
                  <a:pt x="16" y="603"/>
                </a:lnTo>
                <a:lnTo>
                  <a:pt x="27" y="542"/>
                </a:lnTo>
                <a:lnTo>
                  <a:pt x="58" y="429"/>
                </a:lnTo>
                <a:lnTo>
                  <a:pt x="100" y="325"/>
                </a:lnTo>
                <a:lnTo>
                  <a:pt x="152" y="232"/>
                </a:lnTo>
                <a:lnTo>
                  <a:pt x="212" y="153"/>
                </a:lnTo>
                <a:lnTo>
                  <a:pt x="280" y="88"/>
                </a:lnTo>
                <a:lnTo>
                  <a:pt x="354" y="40"/>
                </a:lnTo>
                <a:lnTo>
                  <a:pt x="434" y="10"/>
                </a:lnTo>
                <a:lnTo>
                  <a:pt x="518" y="0"/>
                </a:lnTo>
                <a:lnTo>
                  <a:pt x="812" y="0"/>
                </a:lnTo>
                <a:lnTo>
                  <a:pt x="877" y="6"/>
                </a:lnTo>
                <a:lnTo>
                  <a:pt x="940" y="25"/>
                </a:lnTo>
                <a:lnTo>
                  <a:pt x="1000" y="54"/>
                </a:lnTo>
                <a:lnTo>
                  <a:pt x="1057" y="95"/>
                </a:lnTo>
                <a:lnTo>
                  <a:pt x="1110" y="146"/>
                </a:lnTo>
                <a:lnTo>
                  <a:pt x="1159" y="206"/>
                </a:lnTo>
                <a:lnTo>
                  <a:pt x="1203" y="275"/>
                </a:lnTo>
                <a:lnTo>
                  <a:pt x="1241" y="352"/>
                </a:lnTo>
                <a:lnTo>
                  <a:pt x="1273" y="437"/>
                </a:lnTo>
                <a:lnTo>
                  <a:pt x="1299" y="529"/>
                </a:lnTo>
                <a:lnTo>
                  <a:pt x="1446" y="529"/>
                </a:lnTo>
                <a:lnTo>
                  <a:pt x="1181" y="793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reeform 14"/>
          <p:cNvSpPr/>
          <p:nvPr/>
        </p:nvSpPr>
        <p:spPr>
          <a:xfrm>
            <a:off x="3133800" y="5878440"/>
            <a:ext cx="917640" cy="503280"/>
          </a:xfrm>
          <a:custGeom>
            <a:avLst/>
            <a:gdLst>
              <a:gd name="textAreaLeft" fmla="*/ 0 w 917640"/>
              <a:gd name="textAreaRight" fmla="*/ 918000 w 9176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446" h="793">
                <a:moveTo>
                  <a:pt x="0" y="793"/>
                </a:moveTo>
                <a:lnTo>
                  <a:pt x="2" y="728"/>
                </a:lnTo>
                <a:lnTo>
                  <a:pt x="7" y="664"/>
                </a:lnTo>
                <a:lnTo>
                  <a:pt x="16" y="603"/>
                </a:lnTo>
                <a:lnTo>
                  <a:pt x="27" y="542"/>
                </a:lnTo>
                <a:lnTo>
                  <a:pt x="58" y="429"/>
                </a:lnTo>
                <a:lnTo>
                  <a:pt x="100" y="325"/>
                </a:lnTo>
                <a:lnTo>
                  <a:pt x="152" y="232"/>
                </a:lnTo>
                <a:lnTo>
                  <a:pt x="212" y="153"/>
                </a:lnTo>
                <a:lnTo>
                  <a:pt x="280" y="88"/>
                </a:lnTo>
                <a:lnTo>
                  <a:pt x="354" y="40"/>
                </a:lnTo>
                <a:lnTo>
                  <a:pt x="434" y="10"/>
                </a:lnTo>
                <a:lnTo>
                  <a:pt x="518" y="0"/>
                </a:lnTo>
                <a:lnTo>
                  <a:pt x="812" y="0"/>
                </a:lnTo>
                <a:lnTo>
                  <a:pt x="877" y="6"/>
                </a:lnTo>
                <a:lnTo>
                  <a:pt x="940" y="25"/>
                </a:lnTo>
                <a:lnTo>
                  <a:pt x="1000" y="54"/>
                </a:lnTo>
                <a:lnTo>
                  <a:pt x="1057" y="95"/>
                </a:lnTo>
                <a:lnTo>
                  <a:pt x="1110" y="146"/>
                </a:lnTo>
                <a:lnTo>
                  <a:pt x="1159" y="206"/>
                </a:lnTo>
                <a:lnTo>
                  <a:pt x="1203" y="275"/>
                </a:lnTo>
                <a:lnTo>
                  <a:pt x="1241" y="352"/>
                </a:lnTo>
                <a:lnTo>
                  <a:pt x="1273" y="437"/>
                </a:lnTo>
                <a:lnTo>
                  <a:pt x="1299" y="529"/>
                </a:lnTo>
                <a:lnTo>
                  <a:pt x="1446" y="529"/>
                </a:lnTo>
                <a:lnTo>
                  <a:pt x="1181" y="793"/>
                </a:lnTo>
                <a:lnTo>
                  <a:pt x="856" y="529"/>
                </a:lnTo>
                <a:lnTo>
                  <a:pt x="1004" y="529"/>
                </a:lnTo>
                <a:lnTo>
                  <a:pt x="995" y="494"/>
                </a:lnTo>
                <a:lnTo>
                  <a:pt x="974" y="425"/>
                </a:lnTo>
                <a:lnTo>
                  <a:pt x="950" y="361"/>
                </a:lnTo>
                <a:lnTo>
                  <a:pt x="921" y="301"/>
                </a:lnTo>
                <a:lnTo>
                  <a:pt x="890" y="245"/>
                </a:lnTo>
                <a:lnTo>
                  <a:pt x="855" y="194"/>
                </a:lnTo>
                <a:lnTo>
                  <a:pt x="797" y="127"/>
                </a:lnTo>
                <a:lnTo>
                  <a:pt x="734" y="73"/>
                </a:lnTo>
                <a:lnTo>
                  <a:pt x="665" y="34"/>
                </a:lnTo>
                <a:lnTo>
                  <a:pt x="664" y="34"/>
                </a:lnTo>
                <a:lnTo>
                  <a:pt x="601" y="70"/>
                </a:lnTo>
                <a:lnTo>
                  <a:pt x="542" y="117"/>
                </a:lnTo>
                <a:lnTo>
                  <a:pt x="488" y="175"/>
                </a:lnTo>
                <a:lnTo>
                  <a:pt x="440" y="243"/>
                </a:lnTo>
                <a:lnTo>
                  <a:pt x="398" y="319"/>
                </a:lnTo>
                <a:lnTo>
                  <a:pt x="362" y="403"/>
                </a:lnTo>
                <a:lnTo>
                  <a:pt x="334" y="493"/>
                </a:lnTo>
                <a:lnTo>
                  <a:pt x="313" y="589"/>
                </a:lnTo>
                <a:lnTo>
                  <a:pt x="300" y="689"/>
                </a:lnTo>
                <a:lnTo>
                  <a:pt x="296" y="793"/>
                </a:lnTo>
                <a:lnTo>
                  <a:pt x="0" y="79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5"/>
          <p:cNvSpPr/>
          <p:nvPr/>
        </p:nvSpPr>
        <p:spPr>
          <a:xfrm>
            <a:off x="3462480" y="5878440"/>
            <a:ext cx="93600" cy="20880"/>
          </a:xfrm>
          <a:custGeom>
            <a:avLst/>
            <a:gdLst>
              <a:gd name="textAreaLeft" fmla="*/ 0 w 93600"/>
              <a:gd name="textAreaRight" fmla="*/ 93960 w 93600"/>
              <a:gd name="textAreaTop" fmla="*/ 0 h 20880"/>
              <a:gd name="textAreaBottom" fmla="*/ 21240 h 20880"/>
            </a:gdLst>
            <a:ahLst/>
            <a:rect l="textAreaLeft" t="textAreaTop" r="textAreaRight" b="textAreaBottom"/>
            <a:pathLst>
              <a:path w="147" h="33">
                <a:moveTo>
                  <a:pt x="0" y="0"/>
                </a:moveTo>
                <a:lnTo>
                  <a:pt x="67" y="7"/>
                </a:lnTo>
                <a:lnTo>
                  <a:pt x="126" y="24"/>
                </a:lnTo>
                <a:lnTo>
                  <a:pt x="140" y="30"/>
                </a:lnTo>
                <a:lnTo>
                  <a:pt x="147" y="3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560" bIns="-2556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16"/>
          <p:cNvSpPr/>
          <p:nvPr/>
        </p:nvSpPr>
        <p:spPr>
          <a:xfrm>
            <a:off x="3133800" y="4294080"/>
            <a:ext cx="792000" cy="2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48" h="341">
                <a:moveTo>
                  <a:pt x="999" y="341"/>
                </a:moveTo>
                <a:lnTo>
                  <a:pt x="999" y="256"/>
                </a:lnTo>
                <a:lnTo>
                  <a:pt x="250" y="256"/>
                </a:lnTo>
                <a:lnTo>
                  <a:pt x="250" y="341"/>
                </a:lnTo>
                <a:lnTo>
                  <a:pt x="0" y="170"/>
                </a:lnTo>
                <a:lnTo>
                  <a:pt x="250" y="0"/>
                </a:lnTo>
                <a:lnTo>
                  <a:pt x="250" y="85"/>
                </a:lnTo>
                <a:lnTo>
                  <a:pt x="999" y="85"/>
                </a:lnTo>
                <a:lnTo>
                  <a:pt x="999" y="0"/>
                </a:lnTo>
                <a:lnTo>
                  <a:pt x="1248" y="170"/>
                </a:lnTo>
                <a:lnTo>
                  <a:pt x="999" y="341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17"/>
          <p:cNvSpPr/>
          <p:nvPr/>
        </p:nvSpPr>
        <p:spPr>
          <a:xfrm>
            <a:off x="3133800" y="4294080"/>
            <a:ext cx="792000" cy="216000"/>
          </a:xfrm>
          <a:custGeom>
            <a:avLst/>
            <a:gdLst>
              <a:gd name="textAreaLeft" fmla="*/ 0 w 792000"/>
              <a:gd name="textAreaRight" fmla="*/ 792360 w 7920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1248" h="341">
                <a:moveTo>
                  <a:pt x="0" y="170"/>
                </a:moveTo>
                <a:lnTo>
                  <a:pt x="250" y="341"/>
                </a:lnTo>
                <a:lnTo>
                  <a:pt x="250" y="256"/>
                </a:lnTo>
                <a:lnTo>
                  <a:pt x="999" y="256"/>
                </a:lnTo>
                <a:lnTo>
                  <a:pt x="999" y="341"/>
                </a:lnTo>
                <a:lnTo>
                  <a:pt x="1248" y="170"/>
                </a:lnTo>
                <a:lnTo>
                  <a:pt x="999" y="0"/>
                </a:lnTo>
                <a:lnTo>
                  <a:pt x="999" y="85"/>
                </a:lnTo>
                <a:lnTo>
                  <a:pt x="250" y="85"/>
                </a:lnTo>
                <a:lnTo>
                  <a:pt x="250" y="0"/>
                </a:lnTo>
                <a:lnTo>
                  <a:pt x="0" y="17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18"/>
          <p:cNvSpPr/>
          <p:nvPr/>
        </p:nvSpPr>
        <p:spPr>
          <a:xfrm>
            <a:off x="6302520" y="5735520"/>
            <a:ext cx="360360" cy="865440"/>
          </a:xfrm>
          <a:custGeom>
            <a:avLst/>
            <a:gdLst>
              <a:gd name="textAreaLeft" fmla="*/ 0 w 360360"/>
              <a:gd name="textAreaRight" fmla="*/ 360720 w 360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68" h="1362">
                <a:moveTo>
                  <a:pt x="283" y="1362"/>
                </a:moveTo>
                <a:lnTo>
                  <a:pt x="0" y="1090"/>
                </a:lnTo>
                <a:lnTo>
                  <a:pt x="142" y="1090"/>
                </a:lnTo>
                <a:lnTo>
                  <a:pt x="142" y="273"/>
                </a:lnTo>
                <a:lnTo>
                  <a:pt x="0" y="273"/>
                </a:lnTo>
                <a:lnTo>
                  <a:pt x="283" y="0"/>
                </a:lnTo>
                <a:lnTo>
                  <a:pt x="568" y="273"/>
                </a:lnTo>
                <a:lnTo>
                  <a:pt x="425" y="273"/>
                </a:lnTo>
                <a:lnTo>
                  <a:pt x="425" y="1090"/>
                </a:lnTo>
                <a:lnTo>
                  <a:pt x="568" y="1090"/>
                </a:lnTo>
                <a:lnTo>
                  <a:pt x="283" y="1362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9"/>
          <p:cNvSpPr/>
          <p:nvPr/>
        </p:nvSpPr>
        <p:spPr>
          <a:xfrm>
            <a:off x="6302520" y="5735520"/>
            <a:ext cx="360360" cy="865440"/>
          </a:xfrm>
          <a:custGeom>
            <a:avLst/>
            <a:gdLst>
              <a:gd name="textAreaLeft" fmla="*/ 0 w 360360"/>
              <a:gd name="textAreaRight" fmla="*/ 360720 w 360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68" h="1362">
                <a:moveTo>
                  <a:pt x="283" y="0"/>
                </a:moveTo>
                <a:lnTo>
                  <a:pt x="568" y="273"/>
                </a:lnTo>
                <a:lnTo>
                  <a:pt x="425" y="273"/>
                </a:lnTo>
                <a:lnTo>
                  <a:pt x="425" y="1090"/>
                </a:lnTo>
                <a:lnTo>
                  <a:pt x="568" y="1090"/>
                </a:lnTo>
                <a:lnTo>
                  <a:pt x="283" y="1362"/>
                </a:lnTo>
                <a:lnTo>
                  <a:pt x="0" y="1090"/>
                </a:lnTo>
                <a:lnTo>
                  <a:pt x="142" y="1090"/>
                </a:lnTo>
                <a:lnTo>
                  <a:pt x="142" y="273"/>
                </a:lnTo>
                <a:lnTo>
                  <a:pt x="0" y="273"/>
                </a:lnTo>
                <a:lnTo>
                  <a:pt x="2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96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Rectangle 5"/>
          <p:cNvSpPr/>
          <p:nvPr/>
        </p:nvSpPr>
        <p:spPr>
          <a:xfrm>
            <a:off x="355320" y="475920"/>
            <a:ext cx="8395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álvulas de comunicación en las cám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l puente de manó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6" descr=""/>
          <p:cNvPicPr/>
          <p:nvPr/>
        </p:nvPicPr>
        <p:blipFill>
          <a:blip r:embed="rId1"/>
          <a:stretch/>
        </p:blipFill>
        <p:spPr>
          <a:xfrm>
            <a:off x="1141560" y="3141720"/>
            <a:ext cx="6886440" cy="30668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5"/>
          <p:cNvSpPr/>
          <p:nvPr/>
        </p:nvSpPr>
        <p:spPr>
          <a:xfrm>
            <a:off x="954000" y="3789360"/>
            <a:ext cx="6883560" cy="30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4"/>
          <p:cNvSpPr/>
          <p:nvPr/>
        </p:nvSpPr>
        <p:spPr>
          <a:xfrm flipH="1">
            <a:off x="4643280" y="5877000"/>
            <a:ext cx="1278000" cy="360360"/>
          </a:xfrm>
          <a:custGeom>
            <a:avLst/>
            <a:gdLst>
              <a:gd name="textAreaLeft" fmla="*/ 0 w 1278000"/>
              <a:gd name="textAreaRight" fmla="*/ 1278000 w 127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555" h="568">
                <a:moveTo>
                  <a:pt x="1269" y="568"/>
                </a:moveTo>
                <a:lnTo>
                  <a:pt x="920" y="379"/>
                </a:lnTo>
                <a:lnTo>
                  <a:pt x="1078" y="379"/>
                </a:lnTo>
                <a:lnTo>
                  <a:pt x="1069" y="354"/>
                </a:lnTo>
                <a:lnTo>
                  <a:pt x="1034" y="281"/>
                </a:lnTo>
                <a:lnTo>
                  <a:pt x="990" y="215"/>
                </a:lnTo>
                <a:lnTo>
                  <a:pt x="938" y="157"/>
                </a:lnTo>
                <a:lnTo>
                  <a:pt x="878" y="106"/>
                </a:lnTo>
                <a:lnTo>
                  <a:pt x="811" y="64"/>
                </a:lnTo>
                <a:lnTo>
                  <a:pt x="739" y="32"/>
                </a:lnTo>
                <a:lnTo>
                  <a:pt x="714" y="24"/>
                </a:lnTo>
                <a:lnTo>
                  <a:pt x="679" y="36"/>
                </a:lnTo>
                <a:lnTo>
                  <a:pt x="613" y="66"/>
                </a:lnTo>
                <a:lnTo>
                  <a:pt x="552" y="104"/>
                </a:lnTo>
                <a:lnTo>
                  <a:pt x="498" y="149"/>
                </a:lnTo>
                <a:lnTo>
                  <a:pt x="449" y="201"/>
                </a:lnTo>
                <a:lnTo>
                  <a:pt x="407" y="258"/>
                </a:lnTo>
                <a:lnTo>
                  <a:pt x="373" y="320"/>
                </a:lnTo>
                <a:lnTo>
                  <a:pt x="346" y="387"/>
                </a:lnTo>
                <a:lnTo>
                  <a:pt x="328" y="457"/>
                </a:lnTo>
                <a:lnTo>
                  <a:pt x="319" y="530"/>
                </a:lnTo>
                <a:lnTo>
                  <a:pt x="318" y="568"/>
                </a:lnTo>
                <a:lnTo>
                  <a:pt x="0" y="568"/>
                </a:lnTo>
                <a:lnTo>
                  <a:pt x="7" y="475"/>
                </a:lnTo>
                <a:lnTo>
                  <a:pt x="28" y="388"/>
                </a:lnTo>
                <a:lnTo>
                  <a:pt x="61" y="307"/>
                </a:lnTo>
                <a:lnTo>
                  <a:pt x="107" y="232"/>
                </a:lnTo>
                <a:lnTo>
                  <a:pt x="162" y="166"/>
                </a:lnTo>
                <a:lnTo>
                  <a:pt x="227" y="109"/>
                </a:lnTo>
                <a:lnTo>
                  <a:pt x="300" y="63"/>
                </a:lnTo>
                <a:lnTo>
                  <a:pt x="379" y="29"/>
                </a:lnTo>
                <a:lnTo>
                  <a:pt x="465" y="7"/>
                </a:lnTo>
                <a:lnTo>
                  <a:pt x="555" y="0"/>
                </a:lnTo>
                <a:lnTo>
                  <a:pt x="873" y="0"/>
                </a:lnTo>
                <a:lnTo>
                  <a:pt x="943" y="4"/>
                </a:lnTo>
                <a:lnTo>
                  <a:pt x="1010" y="18"/>
                </a:lnTo>
                <a:lnTo>
                  <a:pt x="1075" y="39"/>
                </a:lnTo>
                <a:lnTo>
                  <a:pt x="1136" y="68"/>
                </a:lnTo>
                <a:lnTo>
                  <a:pt x="1194" y="104"/>
                </a:lnTo>
                <a:lnTo>
                  <a:pt x="1246" y="148"/>
                </a:lnTo>
                <a:lnTo>
                  <a:pt x="1293" y="197"/>
                </a:lnTo>
                <a:lnTo>
                  <a:pt x="1335" y="253"/>
                </a:lnTo>
                <a:lnTo>
                  <a:pt x="1369" y="313"/>
                </a:lnTo>
                <a:lnTo>
                  <a:pt x="1396" y="379"/>
                </a:lnTo>
                <a:lnTo>
                  <a:pt x="1555" y="379"/>
                </a:lnTo>
                <a:lnTo>
                  <a:pt x="1269" y="568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2"/>
          <p:cNvSpPr/>
          <p:nvPr/>
        </p:nvSpPr>
        <p:spPr>
          <a:xfrm flipH="1">
            <a:off x="4662360" y="5877000"/>
            <a:ext cx="1278000" cy="360360"/>
          </a:xfrm>
          <a:custGeom>
            <a:avLst/>
            <a:gdLst>
              <a:gd name="textAreaLeft" fmla="*/ 0 w 1278000"/>
              <a:gd name="textAreaRight" fmla="*/ 1278000 w 12780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1555" h="568">
                <a:moveTo>
                  <a:pt x="0" y="568"/>
                </a:moveTo>
                <a:lnTo>
                  <a:pt x="7" y="475"/>
                </a:lnTo>
                <a:lnTo>
                  <a:pt x="28" y="388"/>
                </a:lnTo>
                <a:lnTo>
                  <a:pt x="61" y="307"/>
                </a:lnTo>
                <a:lnTo>
                  <a:pt x="107" y="232"/>
                </a:lnTo>
                <a:lnTo>
                  <a:pt x="162" y="166"/>
                </a:lnTo>
                <a:lnTo>
                  <a:pt x="227" y="109"/>
                </a:lnTo>
                <a:lnTo>
                  <a:pt x="300" y="63"/>
                </a:lnTo>
                <a:lnTo>
                  <a:pt x="379" y="29"/>
                </a:lnTo>
                <a:lnTo>
                  <a:pt x="465" y="7"/>
                </a:lnTo>
                <a:lnTo>
                  <a:pt x="555" y="0"/>
                </a:lnTo>
                <a:lnTo>
                  <a:pt x="873" y="0"/>
                </a:lnTo>
                <a:lnTo>
                  <a:pt x="943" y="4"/>
                </a:lnTo>
                <a:lnTo>
                  <a:pt x="1010" y="18"/>
                </a:lnTo>
                <a:lnTo>
                  <a:pt x="1075" y="39"/>
                </a:lnTo>
                <a:lnTo>
                  <a:pt x="1136" y="68"/>
                </a:lnTo>
                <a:lnTo>
                  <a:pt x="1194" y="104"/>
                </a:lnTo>
                <a:lnTo>
                  <a:pt x="1246" y="148"/>
                </a:lnTo>
                <a:lnTo>
                  <a:pt x="1293" y="197"/>
                </a:lnTo>
                <a:lnTo>
                  <a:pt x="1335" y="253"/>
                </a:lnTo>
                <a:lnTo>
                  <a:pt x="1369" y="313"/>
                </a:lnTo>
                <a:lnTo>
                  <a:pt x="1396" y="379"/>
                </a:lnTo>
                <a:lnTo>
                  <a:pt x="1555" y="379"/>
                </a:lnTo>
                <a:lnTo>
                  <a:pt x="1269" y="568"/>
                </a:lnTo>
                <a:lnTo>
                  <a:pt x="920" y="379"/>
                </a:lnTo>
                <a:lnTo>
                  <a:pt x="1078" y="379"/>
                </a:lnTo>
                <a:lnTo>
                  <a:pt x="1069" y="354"/>
                </a:lnTo>
                <a:lnTo>
                  <a:pt x="1034" y="281"/>
                </a:lnTo>
                <a:lnTo>
                  <a:pt x="990" y="215"/>
                </a:lnTo>
                <a:lnTo>
                  <a:pt x="938" y="157"/>
                </a:lnTo>
                <a:lnTo>
                  <a:pt x="878" y="106"/>
                </a:lnTo>
                <a:lnTo>
                  <a:pt x="811" y="64"/>
                </a:lnTo>
                <a:lnTo>
                  <a:pt x="739" y="32"/>
                </a:lnTo>
                <a:lnTo>
                  <a:pt x="714" y="24"/>
                </a:lnTo>
                <a:lnTo>
                  <a:pt x="679" y="36"/>
                </a:lnTo>
                <a:lnTo>
                  <a:pt x="613" y="66"/>
                </a:lnTo>
                <a:lnTo>
                  <a:pt x="552" y="104"/>
                </a:lnTo>
                <a:lnTo>
                  <a:pt x="498" y="149"/>
                </a:lnTo>
                <a:lnTo>
                  <a:pt x="449" y="201"/>
                </a:lnTo>
                <a:lnTo>
                  <a:pt x="407" y="258"/>
                </a:lnTo>
                <a:lnTo>
                  <a:pt x="373" y="320"/>
                </a:lnTo>
                <a:lnTo>
                  <a:pt x="346" y="387"/>
                </a:lnTo>
                <a:lnTo>
                  <a:pt x="328" y="457"/>
                </a:lnTo>
                <a:lnTo>
                  <a:pt x="319" y="530"/>
                </a:lnTo>
                <a:lnTo>
                  <a:pt x="318" y="568"/>
                </a:lnTo>
                <a:lnTo>
                  <a:pt x="0" y="568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0"/>
          <p:cNvSpPr/>
          <p:nvPr/>
        </p:nvSpPr>
        <p:spPr>
          <a:xfrm>
            <a:off x="4987800" y="4365720"/>
            <a:ext cx="792360" cy="215640"/>
          </a:xfrm>
          <a:custGeom>
            <a:avLst/>
            <a:gdLst>
              <a:gd name="textAreaLeft" fmla="*/ 0 w 792360"/>
              <a:gd name="textAreaRight" fmla="*/ 792720 w 79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248" h="340">
                <a:moveTo>
                  <a:pt x="998" y="340"/>
                </a:moveTo>
                <a:lnTo>
                  <a:pt x="998" y="256"/>
                </a:lnTo>
                <a:lnTo>
                  <a:pt x="249" y="256"/>
                </a:lnTo>
                <a:lnTo>
                  <a:pt x="249" y="340"/>
                </a:lnTo>
                <a:lnTo>
                  <a:pt x="0" y="171"/>
                </a:lnTo>
                <a:lnTo>
                  <a:pt x="249" y="0"/>
                </a:lnTo>
                <a:lnTo>
                  <a:pt x="249" y="86"/>
                </a:lnTo>
                <a:lnTo>
                  <a:pt x="998" y="86"/>
                </a:lnTo>
                <a:lnTo>
                  <a:pt x="998" y="0"/>
                </a:lnTo>
                <a:lnTo>
                  <a:pt x="1248" y="171"/>
                </a:lnTo>
                <a:lnTo>
                  <a:pt x="998" y="340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9"/>
          <p:cNvSpPr/>
          <p:nvPr/>
        </p:nvSpPr>
        <p:spPr>
          <a:xfrm>
            <a:off x="4987800" y="4365720"/>
            <a:ext cx="792360" cy="215640"/>
          </a:xfrm>
          <a:custGeom>
            <a:avLst/>
            <a:gdLst>
              <a:gd name="textAreaLeft" fmla="*/ 0 w 792360"/>
              <a:gd name="textAreaRight" fmla="*/ 792720 w 792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1248" h="340">
                <a:moveTo>
                  <a:pt x="0" y="171"/>
                </a:moveTo>
                <a:lnTo>
                  <a:pt x="249" y="340"/>
                </a:lnTo>
                <a:lnTo>
                  <a:pt x="249" y="256"/>
                </a:lnTo>
                <a:lnTo>
                  <a:pt x="998" y="256"/>
                </a:lnTo>
                <a:lnTo>
                  <a:pt x="998" y="340"/>
                </a:lnTo>
                <a:lnTo>
                  <a:pt x="1248" y="171"/>
                </a:lnTo>
                <a:lnTo>
                  <a:pt x="998" y="0"/>
                </a:lnTo>
                <a:lnTo>
                  <a:pt x="998" y="86"/>
                </a:lnTo>
                <a:lnTo>
                  <a:pt x="249" y="86"/>
                </a:lnTo>
                <a:lnTo>
                  <a:pt x="249" y="0"/>
                </a:lnTo>
                <a:lnTo>
                  <a:pt x="0" y="17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9"/>
          <p:cNvSpPr/>
          <p:nvPr/>
        </p:nvSpPr>
        <p:spPr>
          <a:xfrm>
            <a:off x="324000" y="1760040"/>
            <a:ext cx="8424720" cy="15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álvula (2) abierta, comunica cámara de alta presión con la de servicio: Vacío, Refrigerante,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ámara de baja presión aislada, mide la presión baja del circuito conect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23"/>
          <p:cNvSpPr/>
          <p:nvPr/>
        </p:nvSpPr>
        <p:spPr>
          <a:xfrm>
            <a:off x="2843280" y="5735520"/>
            <a:ext cx="360360" cy="865440"/>
          </a:xfrm>
          <a:custGeom>
            <a:avLst/>
            <a:gdLst>
              <a:gd name="textAreaLeft" fmla="*/ 0 w 360360"/>
              <a:gd name="textAreaRight" fmla="*/ 360720 w 360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68" h="1362">
                <a:moveTo>
                  <a:pt x="283" y="1362"/>
                </a:moveTo>
                <a:lnTo>
                  <a:pt x="0" y="1090"/>
                </a:lnTo>
                <a:lnTo>
                  <a:pt x="142" y="1090"/>
                </a:lnTo>
                <a:lnTo>
                  <a:pt x="142" y="273"/>
                </a:lnTo>
                <a:lnTo>
                  <a:pt x="0" y="273"/>
                </a:lnTo>
                <a:lnTo>
                  <a:pt x="283" y="0"/>
                </a:lnTo>
                <a:lnTo>
                  <a:pt x="568" y="273"/>
                </a:lnTo>
                <a:lnTo>
                  <a:pt x="425" y="273"/>
                </a:lnTo>
                <a:lnTo>
                  <a:pt x="425" y="1090"/>
                </a:lnTo>
                <a:lnTo>
                  <a:pt x="568" y="1090"/>
                </a:lnTo>
                <a:lnTo>
                  <a:pt x="283" y="1362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24"/>
          <p:cNvSpPr/>
          <p:nvPr/>
        </p:nvSpPr>
        <p:spPr>
          <a:xfrm>
            <a:off x="2843280" y="5735520"/>
            <a:ext cx="360360" cy="865440"/>
          </a:xfrm>
          <a:custGeom>
            <a:avLst/>
            <a:gdLst>
              <a:gd name="textAreaLeft" fmla="*/ 0 w 360360"/>
              <a:gd name="textAreaRight" fmla="*/ 360720 w 360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568" h="1362">
                <a:moveTo>
                  <a:pt x="283" y="0"/>
                </a:moveTo>
                <a:lnTo>
                  <a:pt x="568" y="273"/>
                </a:lnTo>
                <a:lnTo>
                  <a:pt x="425" y="273"/>
                </a:lnTo>
                <a:lnTo>
                  <a:pt x="425" y="1090"/>
                </a:lnTo>
                <a:lnTo>
                  <a:pt x="568" y="1090"/>
                </a:lnTo>
                <a:lnTo>
                  <a:pt x="283" y="1362"/>
                </a:lnTo>
                <a:lnTo>
                  <a:pt x="0" y="1090"/>
                </a:lnTo>
                <a:lnTo>
                  <a:pt x="142" y="1090"/>
                </a:lnTo>
                <a:lnTo>
                  <a:pt x="142" y="273"/>
                </a:lnTo>
                <a:lnTo>
                  <a:pt x="0" y="273"/>
                </a:lnTo>
                <a:lnTo>
                  <a:pt x="283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09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Rectangle 5"/>
          <p:cNvSpPr/>
          <p:nvPr/>
        </p:nvSpPr>
        <p:spPr>
          <a:xfrm>
            <a:off x="355320" y="475920"/>
            <a:ext cx="839520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álvulas de comunicación en las cámar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l puente de manóme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1139760" y="3138480"/>
            <a:ext cx="6888240" cy="3067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324000" y="1769040"/>
            <a:ext cx="8496000" cy="12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álvulas (1) y (2) cerradas, todas las cámaras independizad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ámara de baja aislada, mide presión ba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ámara de alta aislada, mide presión 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1260360" y="3143160"/>
            <a:ext cx="698508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2"/>
          <p:cNvSpPr/>
          <p:nvPr/>
        </p:nvSpPr>
        <p:spPr>
          <a:xfrm>
            <a:off x="2843280" y="5951520"/>
            <a:ext cx="288720" cy="574560"/>
          </a:xfrm>
          <a:custGeom>
            <a:avLst/>
            <a:gdLst>
              <a:gd name="textAreaLeft" fmla="*/ 0 w 288720"/>
              <a:gd name="textAreaRight" fmla="*/ 289080 w 288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4" h="905">
                <a:moveTo>
                  <a:pt x="226" y="905"/>
                </a:moveTo>
                <a:lnTo>
                  <a:pt x="0" y="725"/>
                </a:lnTo>
                <a:lnTo>
                  <a:pt x="112" y="725"/>
                </a:lnTo>
                <a:lnTo>
                  <a:pt x="112" y="181"/>
                </a:lnTo>
                <a:lnTo>
                  <a:pt x="0" y="181"/>
                </a:lnTo>
                <a:lnTo>
                  <a:pt x="226" y="0"/>
                </a:lnTo>
                <a:lnTo>
                  <a:pt x="454" y="181"/>
                </a:lnTo>
                <a:lnTo>
                  <a:pt x="340" y="181"/>
                </a:lnTo>
                <a:lnTo>
                  <a:pt x="340" y="725"/>
                </a:lnTo>
                <a:lnTo>
                  <a:pt x="454" y="725"/>
                </a:lnTo>
                <a:lnTo>
                  <a:pt x="226" y="90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3"/>
          <p:cNvSpPr/>
          <p:nvPr/>
        </p:nvSpPr>
        <p:spPr>
          <a:xfrm>
            <a:off x="2843280" y="5951520"/>
            <a:ext cx="288720" cy="574560"/>
          </a:xfrm>
          <a:custGeom>
            <a:avLst/>
            <a:gdLst>
              <a:gd name="textAreaLeft" fmla="*/ 0 w 288720"/>
              <a:gd name="textAreaRight" fmla="*/ 289080 w 288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4" h="905">
                <a:moveTo>
                  <a:pt x="226" y="0"/>
                </a:moveTo>
                <a:lnTo>
                  <a:pt x="454" y="181"/>
                </a:lnTo>
                <a:lnTo>
                  <a:pt x="340" y="181"/>
                </a:lnTo>
                <a:lnTo>
                  <a:pt x="340" y="725"/>
                </a:lnTo>
                <a:lnTo>
                  <a:pt x="454" y="725"/>
                </a:lnTo>
                <a:lnTo>
                  <a:pt x="226" y="905"/>
                </a:lnTo>
                <a:lnTo>
                  <a:pt x="0" y="725"/>
                </a:lnTo>
                <a:lnTo>
                  <a:pt x="112" y="725"/>
                </a:lnTo>
                <a:lnTo>
                  <a:pt x="112" y="181"/>
                </a:lnTo>
                <a:lnTo>
                  <a:pt x="0" y="181"/>
                </a:lnTo>
                <a:lnTo>
                  <a:pt x="226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4"/>
          <p:cNvSpPr/>
          <p:nvPr/>
        </p:nvSpPr>
        <p:spPr>
          <a:xfrm>
            <a:off x="4643280" y="5951520"/>
            <a:ext cx="289080" cy="574560"/>
          </a:xfrm>
          <a:custGeom>
            <a:avLst/>
            <a:gdLst>
              <a:gd name="textAreaLeft" fmla="*/ 0 w 289080"/>
              <a:gd name="textAreaRight" fmla="*/ 289440 w 2890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5" h="905">
                <a:moveTo>
                  <a:pt x="228" y="905"/>
                </a:moveTo>
                <a:lnTo>
                  <a:pt x="0" y="725"/>
                </a:lnTo>
                <a:lnTo>
                  <a:pt x="114" y="725"/>
                </a:lnTo>
                <a:lnTo>
                  <a:pt x="114" y="181"/>
                </a:lnTo>
                <a:lnTo>
                  <a:pt x="0" y="181"/>
                </a:lnTo>
                <a:lnTo>
                  <a:pt x="228" y="0"/>
                </a:lnTo>
                <a:lnTo>
                  <a:pt x="455" y="181"/>
                </a:lnTo>
                <a:lnTo>
                  <a:pt x="341" y="181"/>
                </a:lnTo>
                <a:lnTo>
                  <a:pt x="341" y="725"/>
                </a:lnTo>
                <a:lnTo>
                  <a:pt x="455" y="725"/>
                </a:lnTo>
                <a:lnTo>
                  <a:pt x="228" y="90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5"/>
          <p:cNvSpPr/>
          <p:nvPr/>
        </p:nvSpPr>
        <p:spPr>
          <a:xfrm>
            <a:off x="4643280" y="5951520"/>
            <a:ext cx="289080" cy="574560"/>
          </a:xfrm>
          <a:custGeom>
            <a:avLst/>
            <a:gdLst>
              <a:gd name="textAreaLeft" fmla="*/ 0 w 289080"/>
              <a:gd name="textAreaRight" fmla="*/ 289440 w 28908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5" h="905">
                <a:moveTo>
                  <a:pt x="228" y="0"/>
                </a:moveTo>
                <a:lnTo>
                  <a:pt x="455" y="181"/>
                </a:lnTo>
                <a:lnTo>
                  <a:pt x="341" y="181"/>
                </a:lnTo>
                <a:lnTo>
                  <a:pt x="341" y="725"/>
                </a:lnTo>
                <a:lnTo>
                  <a:pt x="455" y="725"/>
                </a:lnTo>
                <a:lnTo>
                  <a:pt x="228" y="905"/>
                </a:lnTo>
                <a:lnTo>
                  <a:pt x="0" y="725"/>
                </a:lnTo>
                <a:lnTo>
                  <a:pt x="114" y="725"/>
                </a:lnTo>
                <a:lnTo>
                  <a:pt x="114" y="181"/>
                </a:lnTo>
                <a:lnTo>
                  <a:pt x="0" y="181"/>
                </a:lnTo>
                <a:lnTo>
                  <a:pt x="22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6"/>
          <p:cNvSpPr/>
          <p:nvPr/>
        </p:nvSpPr>
        <p:spPr>
          <a:xfrm>
            <a:off x="6372360" y="5951520"/>
            <a:ext cx="288720" cy="574560"/>
          </a:xfrm>
          <a:custGeom>
            <a:avLst/>
            <a:gdLst>
              <a:gd name="textAreaLeft" fmla="*/ 0 w 288720"/>
              <a:gd name="textAreaRight" fmla="*/ 289080 w 288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4" h="905">
                <a:moveTo>
                  <a:pt x="226" y="905"/>
                </a:moveTo>
                <a:lnTo>
                  <a:pt x="0" y="725"/>
                </a:lnTo>
                <a:lnTo>
                  <a:pt x="114" y="725"/>
                </a:lnTo>
                <a:lnTo>
                  <a:pt x="114" y="181"/>
                </a:lnTo>
                <a:lnTo>
                  <a:pt x="0" y="181"/>
                </a:lnTo>
                <a:lnTo>
                  <a:pt x="226" y="0"/>
                </a:lnTo>
                <a:lnTo>
                  <a:pt x="454" y="181"/>
                </a:lnTo>
                <a:lnTo>
                  <a:pt x="340" y="181"/>
                </a:lnTo>
                <a:lnTo>
                  <a:pt x="340" y="725"/>
                </a:lnTo>
                <a:lnTo>
                  <a:pt x="454" y="725"/>
                </a:lnTo>
                <a:lnTo>
                  <a:pt x="226" y="90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7"/>
          <p:cNvSpPr/>
          <p:nvPr/>
        </p:nvSpPr>
        <p:spPr>
          <a:xfrm>
            <a:off x="6372360" y="5951520"/>
            <a:ext cx="288720" cy="574560"/>
          </a:xfrm>
          <a:custGeom>
            <a:avLst/>
            <a:gdLst>
              <a:gd name="textAreaLeft" fmla="*/ 0 w 288720"/>
              <a:gd name="textAreaRight" fmla="*/ 289080 w 2887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54" h="905">
                <a:moveTo>
                  <a:pt x="226" y="0"/>
                </a:moveTo>
                <a:lnTo>
                  <a:pt x="454" y="181"/>
                </a:lnTo>
                <a:lnTo>
                  <a:pt x="340" y="181"/>
                </a:lnTo>
                <a:lnTo>
                  <a:pt x="340" y="725"/>
                </a:lnTo>
                <a:lnTo>
                  <a:pt x="454" y="725"/>
                </a:lnTo>
                <a:lnTo>
                  <a:pt x="226" y="905"/>
                </a:lnTo>
                <a:lnTo>
                  <a:pt x="0" y="725"/>
                </a:lnTo>
                <a:lnTo>
                  <a:pt x="114" y="725"/>
                </a:lnTo>
                <a:lnTo>
                  <a:pt x="114" y="181"/>
                </a:lnTo>
                <a:lnTo>
                  <a:pt x="0" y="181"/>
                </a:lnTo>
                <a:lnTo>
                  <a:pt x="226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8"/>
          <p:cNvSpPr/>
          <p:nvPr/>
        </p:nvSpPr>
        <p:spPr>
          <a:xfrm>
            <a:off x="2844720" y="4294080"/>
            <a:ext cx="289080" cy="358920"/>
          </a:xfrm>
          <a:custGeom>
            <a:avLst/>
            <a:gdLst>
              <a:gd name="textAreaLeft" fmla="*/ 0 w 289080"/>
              <a:gd name="textAreaRight" fmla="*/ 289440 w 2890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454" h="565">
                <a:moveTo>
                  <a:pt x="228" y="565"/>
                </a:moveTo>
                <a:lnTo>
                  <a:pt x="0" y="453"/>
                </a:lnTo>
                <a:lnTo>
                  <a:pt x="114" y="453"/>
                </a:lnTo>
                <a:lnTo>
                  <a:pt x="114" y="113"/>
                </a:lnTo>
                <a:lnTo>
                  <a:pt x="0" y="113"/>
                </a:lnTo>
                <a:lnTo>
                  <a:pt x="228" y="0"/>
                </a:lnTo>
                <a:lnTo>
                  <a:pt x="454" y="113"/>
                </a:lnTo>
                <a:lnTo>
                  <a:pt x="342" y="113"/>
                </a:lnTo>
                <a:lnTo>
                  <a:pt x="342" y="453"/>
                </a:lnTo>
                <a:lnTo>
                  <a:pt x="454" y="453"/>
                </a:lnTo>
                <a:lnTo>
                  <a:pt x="228" y="56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9"/>
          <p:cNvSpPr/>
          <p:nvPr/>
        </p:nvSpPr>
        <p:spPr>
          <a:xfrm>
            <a:off x="2844720" y="4294080"/>
            <a:ext cx="289080" cy="358920"/>
          </a:xfrm>
          <a:custGeom>
            <a:avLst/>
            <a:gdLst>
              <a:gd name="textAreaLeft" fmla="*/ 0 w 289080"/>
              <a:gd name="textAreaRight" fmla="*/ 289440 w 2890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454" h="565">
                <a:moveTo>
                  <a:pt x="228" y="0"/>
                </a:moveTo>
                <a:lnTo>
                  <a:pt x="454" y="113"/>
                </a:lnTo>
                <a:lnTo>
                  <a:pt x="342" y="113"/>
                </a:lnTo>
                <a:lnTo>
                  <a:pt x="342" y="453"/>
                </a:lnTo>
                <a:lnTo>
                  <a:pt x="454" y="453"/>
                </a:lnTo>
                <a:lnTo>
                  <a:pt x="228" y="565"/>
                </a:lnTo>
                <a:lnTo>
                  <a:pt x="0" y="453"/>
                </a:lnTo>
                <a:lnTo>
                  <a:pt x="114" y="453"/>
                </a:lnTo>
                <a:lnTo>
                  <a:pt x="114" y="113"/>
                </a:lnTo>
                <a:lnTo>
                  <a:pt x="0" y="113"/>
                </a:lnTo>
                <a:lnTo>
                  <a:pt x="22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reeform 20"/>
          <p:cNvSpPr/>
          <p:nvPr/>
        </p:nvSpPr>
        <p:spPr>
          <a:xfrm>
            <a:off x="5651640" y="4294080"/>
            <a:ext cx="288720" cy="358920"/>
          </a:xfrm>
          <a:custGeom>
            <a:avLst/>
            <a:gdLst>
              <a:gd name="textAreaLeft" fmla="*/ 0 w 288720"/>
              <a:gd name="textAreaRight" fmla="*/ 289080 w 2887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455" h="565">
                <a:moveTo>
                  <a:pt x="228" y="565"/>
                </a:moveTo>
                <a:lnTo>
                  <a:pt x="0" y="453"/>
                </a:lnTo>
                <a:lnTo>
                  <a:pt x="114" y="453"/>
                </a:lnTo>
                <a:lnTo>
                  <a:pt x="114" y="113"/>
                </a:lnTo>
                <a:lnTo>
                  <a:pt x="0" y="113"/>
                </a:lnTo>
                <a:lnTo>
                  <a:pt x="228" y="0"/>
                </a:lnTo>
                <a:lnTo>
                  <a:pt x="455" y="113"/>
                </a:lnTo>
                <a:lnTo>
                  <a:pt x="341" y="113"/>
                </a:lnTo>
                <a:lnTo>
                  <a:pt x="341" y="453"/>
                </a:lnTo>
                <a:lnTo>
                  <a:pt x="455" y="453"/>
                </a:lnTo>
                <a:lnTo>
                  <a:pt x="228" y="565"/>
                </a:lnTo>
                <a:close/>
              </a:path>
            </a:pathLst>
          </a:custGeom>
          <a:solidFill>
            <a:srgbClr val="96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reeform 21"/>
          <p:cNvSpPr/>
          <p:nvPr/>
        </p:nvSpPr>
        <p:spPr>
          <a:xfrm>
            <a:off x="5651640" y="4294080"/>
            <a:ext cx="288720" cy="358920"/>
          </a:xfrm>
          <a:custGeom>
            <a:avLst/>
            <a:gdLst>
              <a:gd name="textAreaLeft" fmla="*/ 0 w 288720"/>
              <a:gd name="textAreaRight" fmla="*/ 289080 w 2887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455" h="565">
                <a:moveTo>
                  <a:pt x="228" y="0"/>
                </a:moveTo>
                <a:lnTo>
                  <a:pt x="455" y="113"/>
                </a:lnTo>
                <a:lnTo>
                  <a:pt x="341" y="113"/>
                </a:lnTo>
                <a:lnTo>
                  <a:pt x="341" y="453"/>
                </a:lnTo>
                <a:lnTo>
                  <a:pt x="455" y="453"/>
                </a:lnTo>
                <a:lnTo>
                  <a:pt x="228" y="565"/>
                </a:lnTo>
                <a:lnTo>
                  <a:pt x="0" y="453"/>
                </a:lnTo>
                <a:lnTo>
                  <a:pt x="114" y="453"/>
                </a:lnTo>
                <a:lnTo>
                  <a:pt x="114" y="113"/>
                </a:lnTo>
                <a:lnTo>
                  <a:pt x="0" y="113"/>
                </a:lnTo>
                <a:lnTo>
                  <a:pt x="228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357120" y="487080"/>
            <a:ext cx="738360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onexionado de las mangueras 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ircuito de refrigera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157320" y="193680"/>
            <a:ext cx="8823240" cy="6095880"/>
          </a:xfrm>
          <a:custGeom>
            <a:avLst/>
            <a:gdLst>
              <a:gd name="textAreaLeft" fmla="*/ 0 w 8823240"/>
              <a:gd name="textAreaRight" fmla="*/ 8823600 w 8823240"/>
              <a:gd name="textAreaTop" fmla="*/ 0 h 6095880"/>
              <a:gd name="textAreaBottom" fmla="*/ 6096240 h 6095880"/>
            </a:gdLst>
            <a:ahLst/>
            <a:rect l="textAreaLeft" t="textAreaTop" r="textAreaRight" b="textAreaBottom"/>
            <a:pathLst>
              <a:path w="13895" h="9600">
                <a:moveTo>
                  <a:pt x="1059" y="0"/>
                </a:moveTo>
                <a:lnTo>
                  <a:pt x="972" y="4"/>
                </a:lnTo>
                <a:lnTo>
                  <a:pt x="887" y="14"/>
                </a:lnTo>
                <a:lnTo>
                  <a:pt x="805" y="31"/>
                </a:lnTo>
                <a:lnTo>
                  <a:pt x="724" y="55"/>
                </a:lnTo>
                <a:lnTo>
                  <a:pt x="647" y="84"/>
                </a:lnTo>
                <a:lnTo>
                  <a:pt x="572" y="119"/>
                </a:lnTo>
                <a:lnTo>
                  <a:pt x="501" y="159"/>
                </a:lnTo>
                <a:lnTo>
                  <a:pt x="433" y="205"/>
                </a:lnTo>
                <a:lnTo>
                  <a:pt x="370" y="256"/>
                </a:lnTo>
                <a:lnTo>
                  <a:pt x="310" y="311"/>
                </a:lnTo>
                <a:lnTo>
                  <a:pt x="255" y="371"/>
                </a:lnTo>
                <a:lnTo>
                  <a:pt x="204" y="435"/>
                </a:lnTo>
                <a:lnTo>
                  <a:pt x="158" y="503"/>
                </a:lnTo>
                <a:lnTo>
                  <a:pt x="118" y="574"/>
                </a:lnTo>
                <a:lnTo>
                  <a:pt x="83" y="648"/>
                </a:lnTo>
                <a:lnTo>
                  <a:pt x="54" y="726"/>
                </a:lnTo>
                <a:lnTo>
                  <a:pt x="30" y="806"/>
                </a:lnTo>
                <a:lnTo>
                  <a:pt x="14" y="889"/>
                </a:lnTo>
                <a:lnTo>
                  <a:pt x="3" y="974"/>
                </a:lnTo>
                <a:lnTo>
                  <a:pt x="0" y="1061"/>
                </a:lnTo>
                <a:lnTo>
                  <a:pt x="0" y="8540"/>
                </a:lnTo>
                <a:lnTo>
                  <a:pt x="3" y="8627"/>
                </a:lnTo>
                <a:lnTo>
                  <a:pt x="14" y="8712"/>
                </a:lnTo>
                <a:lnTo>
                  <a:pt x="30" y="8795"/>
                </a:lnTo>
                <a:lnTo>
                  <a:pt x="54" y="8875"/>
                </a:lnTo>
                <a:lnTo>
                  <a:pt x="83" y="8952"/>
                </a:lnTo>
                <a:lnTo>
                  <a:pt x="118" y="9027"/>
                </a:lnTo>
                <a:lnTo>
                  <a:pt x="158" y="9098"/>
                </a:lnTo>
                <a:lnTo>
                  <a:pt x="204" y="9166"/>
                </a:lnTo>
                <a:lnTo>
                  <a:pt x="255" y="9230"/>
                </a:lnTo>
                <a:lnTo>
                  <a:pt x="310" y="9290"/>
                </a:lnTo>
                <a:lnTo>
                  <a:pt x="370" y="9345"/>
                </a:lnTo>
                <a:lnTo>
                  <a:pt x="433" y="9396"/>
                </a:lnTo>
                <a:lnTo>
                  <a:pt x="501" y="9442"/>
                </a:lnTo>
                <a:lnTo>
                  <a:pt x="572" y="9482"/>
                </a:lnTo>
                <a:lnTo>
                  <a:pt x="647" y="9517"/>
                </a:lnTo>
                <a:lnTo>
                  <a:pt x="724" y="9546"/>
                </a:lnTo>
                <a:lnTo>
                  <a:pt x="805" y="9570"/>
                </a:lnTo>
                <a:lnTo>
                  <a:pt x="887" y="9587"/>
                </a:lnTo>
                <a:lnTo>
                  <a:pt x="972" y="9597"/>
                </a:lnTo>
                <a:lnTo>
                  <a:pt x="1059" y="9600"/>
                </a:lnTo>
                <a:lnTo>
                  <a:pt x="12834" y="9600"/>
                </a:lnTo>
                <a:lnTo>
                  <a:pt x="12921" y="9597"/>
                </a:lnTo>
                <a:lnTo>
                  <a:pt x="13006" y="9587"/>
                </a:lnTo>
                <a:lnTo>
                  <a:pt x="13089" y="9570"/>
                </a:lnTo>
                <a:lnTo>
                  <a:pt x="13169" y="9546"/>
                </a:lnTo>
                <a:lnTo>
                  <a:pt x="13247" y="9517"/>
                </a:lnTo>
                <a:lnTo>
                  <a:pt x="13321" y="9482"/>
                </a:lnTo>
                <a:lnTo>
                  <a:pt x="13392" y="9442"/>
                </a:lnTo>
                <a:lnTo>
                  <a:pt x="13460" y="9396"/>
                </a:lnTo>
                <a:lnTo>
                  <a:pt x="13524" y="9345"/>
                </a:lnTo>
                <a:lnTo>
                  <a:pt x="13584" y="9290"/>
                </a:lnTo>
                <a:lnTo>
                  <a:pt x="13639" y="9230"/>
                </a:lnTo>
                <a:lnTo>
                  <a:pt x="13690" y="9166"/>
                </a:lnTo>
                <a:lnTo>
                  <a:pt x="13736" y="9098"/>
                </a:lnTo>
                <a:lnTo>
                  <a:pt x="13776" y="9027"/>
                </a:lnTo>
                <a:lnTo>
                  <a:pt x="13811" y="8952"/>
                </a:lnTo>
                <a:lnTo>
                  <a:pt x="13840" y="8875"/>
                </a:lnTo>
                <a:lnTo>
                  <a:pt x="13864" y="8795"/>
                </a:lnTo>
                <a:lnTo>
                  <a:pt x="13881" y="8712"/>
                </a:lnTo>
                <a:lnTo>
                  <a:pt x="13891" y="8627"/>
                </a:lnTo>
                <a:lnTo>
                  <a:pt x="13895" y="8540"/>
                </a:lnTo>
                <a:lnTo>
                  <a:pt x="13895" y="1061"/>
                </a:lnTo>
                <a:lnTo>
                  <a:pt x="13891" y="974"/>
                </a:lnTo>
                <a:lnTo>
                  <a:pt x="13881" y="889"/>
                </a:lnTo>
                <a:lnTo>
                  <a:pt x="13864" y="806"/>
                </a:lnTo>
                <a:lnTo>
                  <a:pt x="13840" y="726"/>
                </a:lnTo>
                <a:lnTo>
                  <a:pt x="13811" y="648"/>
                </a:lnTo>
                <a:lnTo>
                  <a:pt x="13776" y="574"/>
                </a:lnTo>
                <a:lnTo>
                  <a:pt x="13736" y="503"/>
                </a:lnTo>
                <a:lnTo>
                  <a:pt x="13690" y="435"/>
                </a:lnTo>
                <a:lnTo>
                  <a:pt x="13639" y="371"/>
                </a:lnTo>
                <a:lnTo>
                  <a:pt x="13584" y="311"/>
                </a:lnTo>
                <a:lnTo>
                  <a:pt x="13524" y="256"/>
                </a:lnTo>
                <a:lnTo>
                  <a:pt x="13460" y="205"/>
                </a:lnTo>
                <a:lnTo>
                  <a:pt x="13392" y="159"/>
                </a:lnTo>
                <a:lnTo>
                  <a:pt x="13321" y="119"/>
                </a:lnTo>
                <a:lnTo>
                  <a:pt x="13247" y="84"/>
                </a:lnTo>
                <a:lnTo>
                  <a:pt x="13169" y="55"/>
                </a:lnTo>
                <a:lnTo>
                  <a:pt x="13089" y="31"/>
                </a:lnTo>
                <a:lnTo>
                  <a:pt x="13006" y="14"/>
                </a:lnTo>
                <a:lnTo>
                  <a:pt x="12921" y="4"/>
                </a:lnTo>
                <a:lnTo>
                  <a:pt x="12834" y="0"/>
                </a:lnTo>
                <a:lnTo>
                  <a:pt x="1059" y="0"/>
                </a:lnTo>
                <a:close/>
              </a:path>
            </a:pathLst>
          </a:custGeom>
          <a:noFill/>
          <a:ln w="2844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4"/>
          <p:cNvSpPr/>
          <p:nvPr/>
        </p:nvSpPr>
        <p:spPr>
          <a:xfrm>
            <a:off x="750960" y="1674720"/>
            <a:ext cx="769608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755640" y="1573200"/>
            <a:ext cx="7124760" cy="5284800"/>
          </a:xfrm>
          <a:prstGeom prst="rect">
            <a:avLst/>
          </a:prstGeom>
          <a:ln w="0">
            <a:noFill/>
          </a:ln>
        </p:spPr>
      </p:pic>
      <p:sp>
        <p:nvSpPr>
          <p:cNvPr id="229" name="Freeform 10"/>
          <p:cNvSpPr/>
          <p:nvPr/>
        </p:nvSpPr>
        <p:spPr>
          <a:xfrm>
            <a:off x="747720" y="1668600"/>
            <a:ext cx="769608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2"/>
          <p:cNvSpPr/>
          <p:nvPr/>
        </p:nvSpPr>
        <p:spPr>
          <a:xfrm>
            <a:off x="755640" y="6292800"/>
            <a:ext cx="7273800" cy="73080"/>
          </a:xfrm>
          <a:custGeom>
            <a:avLst/>
            <a:gdLst>
              <a:gd name="textAreaLeft" fmla="*/ 0 w 7273800"/>
              <a:gd name="textAreaRight" fmla="*/ 7274160 w 72738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120" h="73025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32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Rectangle 10"/>
          <p:cNvSpPr/>
          <p:nvPr/>
        </p:nvSpPr>
        <p:spPr>
          <a:xfrm>
            <a:off x="611280" y="1767600"/>
            <a:ext cx="7416720" cy="20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espetar siemp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guera de baja presión a la zona de baj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guera de alta presión a la zona de 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ngueras sin conexión extremo opuesto a la conexión cieg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595440" y="10144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357120" y="487080"/>
            <a:ext cx="738360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onexionado de las mangueras 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ircuito de refrigerante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7" descr=""/>
          <p:cNvPicPr/>
          <p:nvPr/>
        </p:nvPicPr>
        <p:blipFill>
          <a:blip r:embed="rId1"/>
          <a:stretch/>
        </p:blipFill>
        <p:spPr>
          <a:xfrm>
            <a:off x="250920" y="2835360"/>
            <a:ext cx="8665920" cy="304164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39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Rectangle 6"/>
          <p:cNvSpPr/>
          <p:nvPr/>
        </p:nvSpPr>
        <p:spPr>
          <a:xfrm>
            <a:off x="539640" y="721800"/>
            <a:ext cx="8280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Peligro de rotura del manómetro de 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0"/>
          <p:cNvSpPr/>
          <p:nvPr/>
        </p:nvSpPr>
        <p:spPr>
          <a:xfrm>
            <a:off x="1081080" y="1689120"/>
            <a:ext cx="769608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2"/>
          <p:cNvSpPr/>
          <p:nvPr/>
        </p:nvSpPr>
        <p:spPr>
          <a:xfrm>
            <a:off x="5754600" y="1895400"/>
            <a:ext cx="92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3"/>
          <p:cNvSpPr/>
          <p:nvPr/>
        </p:nvSpPr>
        <p:spPr>
          <a:xfrm>
            <a:off x="1219320" y="1824120"/>
            <a:ext cx="927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2220840" y="1962000"/>
            <a:ext cx="5842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6"/>
          <p:cNvSpPr/>
          <p:nvPr/>
        </p:nvSpPr>
        <p:spPr>
          <a:xfrm>
            <a:off x="6762600" y="2039760"/>
            <a:ext cx="649440" cy="648000"/>
          </a:xfrm>
          <a:custGeom>
            <a:avLst/>
            <a:gdLst>
              <a:gd name="textAreaLeft" fmla="*/ 0 w 649440"/>
              <a:gd name="textAreaRight" fmla="*/ 649800 w 649440"/>
              <a:gd name="textAreaTop" fmla="*/ 0 h 648000"/>
              <a:gd name="textAreaBottom" fmla="*/ 648360 h 648000"/>
            </a:gdLst>
            <a:ahLst/>
            <a:rect l="textAreaLeft" t="textAreaTop" r="textAreaRight" b="textAreaBottom"/>
            <a:pathLst>
              <a:path w="1022" h="1020">
                <a:moveTo>
                  <a:pt x="511" y="0"/>
                </a:moveTo>
                <a:lnTo>
                  <a:pt x="428" y="7"/>
                </a:lnTo>
                <a:lnTo>
                  <a:pt x="349" y="26"/>
                </a:lnTo>
                <a:lnTo>
                  <a:pt x="276" y="57"/>
                </a:lnTo>
                <a:lnTo>
                  <a:pt x="209" y="99"/>
                </a:lnTo>
                <a:lnTo>
                  <a:pt x="150" y="150"/>
                </a:lnTo>
                <a:lnTo>
                  <a:pt x="98" y="209"/>
                </a:lnTo>
                <a:lnTo>
                  <a:pt x="57" y="276"/>
                </a:lnTo>
                <a:lnTo>
                  <a:pt x="26" y="349"/>
                </a:lnTo>
                <a:lnTo>
                  <a:pt x="6" y="427"/>
                </a:lnTo>
                <a:lnTo>
                  <a:pt x="0" y="510"/>
                </a:lnTo>
                <a:lnTo>
                  <a:pt x="1" y="552"/>
                </a:lnTo>
                <a:lnTo>
                  <a:pt x="15" y="633"/>
                </a:lnTo>
                <a:lnTo>
                  <a:pt x="40" y="709"/>
                </a:lnTo>
                <a:lnTo>
                  <a:pt x="76" y="779"/>
                </a:lnTo>
                <a:lnTo>
                  <a:pt x="123" y="842"/>
                </a:lnTo>
                <a:lnTo>
                  <a:pt x="178" y="898"/>
                </a:lnTo>
                <a:lnTo>
                  <a:pt x="242" y="944"/>
                </a:lnTo>
                <a:lnTo>
                  <a:pt x="312" y="980"/>
                </a:lnTo>
                <a:lnTo>
                  <a:pt x="388" y="1005"/>
                </a:lnTo>
                <a:lnTo>
                  <a:pt x="469" y="1019"/>
                </a:lnTo>
                <a:lnTo>
                  <a:pt x="511" y="1020"/>
                </a:lnTo>
                <a:lnTo>
                  <a:pt x="553" y="1019"/>
                </a:lnTo>
                <a:lnTo>
                  <a:pt x="634" y="1005"/>
                </a:lnTo>
                <a:lnTo>
                  <a:pt x="710" y="980"/>
                </a:lnTo>
                <a:lnTo>
                  <a:pt x="781" y="944"/>
                </a:lnTo>
                <a:lnTo>
                  <a:pt x="844" y="898"/>
                </a:lnTo>
                <a:lnTo>
                  <a:pt x="899" y="842"/>
                </a:lnTo>
                <a:lnTo>
                  <a:pt x="946" y="779"/>
                </a:lnTo>
                <a:lnTo>
                  <a:pt x="982" y="709"/>
                </a:lnTo>
                <a:lnTo>
                  <a:pt x="1007" y="633"/>
                </a:lnTo>
                <a:lnTo>
                  <a:pt x="1020" y="552"/>
                </a:lnTo>
                <a:lnTo>
                  <a:pt x="1022" y="510"/>
                </a:lnTo>
                <a:lnTo>
                  <a:pt x="1020" y="468"/>
                </a:lnTo>
                <a:lnTo>
                  <a:pt x="1007" y="388"/>
                </a:lnTo>
                <a:lnTo>
                  <a:pt x="982" y="312"/>
                </a:lnTo>
                <a:lnTo>
                  <a:pt x="946" y="242"/>
                </a:lnTo>
                <a:lnTo>
                  <a:pt x="899" y="178"/>
                </a:lnTo>
                <a:lnTo>
                  <a:pt x="844" y="123"/>
                </a:lnTo>
                <a:lnTo>
                  <a:pt x="781" y="77"/>
                </a:lnTo>
                <a:lnTo>
                  <a:pt x="710" y="40"/>
                </a:lnTo>
                <a:lnTo>
                  <a:pt x="634" y="15"/>
                </a:lnTo>
                <a:lnTo>
                  <a:pt x="553" y="2"/>
                </a:lnTo>
                <a:lnTo>
                  <a:pt x="51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7"/>
          <p:cNvSpPr/>
          <p:nvPr/>
        </p:nvSpPr>
        <p:spPr>
          <a:xfrm>
            <a:off x="6912000" y="2505240"/>
            <a:ext cx="350640" cy="60120"/>
          </a:xfrm>
          <a:custGeom>
            <a:avLst/>
            <a:gdLst>
              <a:gd name="textAreaLeft" fmla="*/ 0 w 350640"/>
              <a:gd name="textAreaRight" fmla="*/ 351000 w 35064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553" h="96">
                <a:moveTo>
                  <a:pt x="0" y="0"/>
                </a:moveTo>
                <a:lnTo>
                  <a:pt x="55" y="35"/>
                </a:lnTo>
                <a:lnTo>
                  <a:pt x="110" y="61"/>
                </a:lnTo>
                <a:lnTo>
                  <a:pt x="193" y="87"/>
                </a:lnTo>
                <a:lnTo>
                  <a:pt x="276" y="96"/>
                </a:lnTo>
                <a:lnTo>
                  <a:pt x="304" y="95"/>
                </a:lnTo>
                <a:lnTo>
                  <a:pt x="387" y="80"/>
                </a:lnTo>
                <a:lnTo>
                  <a:pt x="470" y="49"/>
                </a:lnTo>
                <a:lnTo>
                  <a:pt x="525" y="18"/>
                </a:lnTo>
                <a:lnTo>
                  <a:pt x="55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8"/>
          <p:cNvSpPr/>
          <p:nvPr/>
        </p:nvSpPr>
        <p:spPr>
          <a:xfrm>
            <a:off x="6950160" y="2233440"/>
            <a:ext cx="66600" cy="66960"/>
          </a:xfrm>
          <a:custGeom>
            <a:avLst/>
            <a:gdLst>
              <a:gd name="textAreaLeft" fmla="*/ 0 w 66600"/>
              <a:gd name="textAreaRight" fmla="*/ 66960 w 66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6" h="106">
                <a:moveTo>
                  <a:pt x="106" y="57"/>
                </a:moveTo>
                <a:lnTo>
                  <a:pt x="66" y="104"/>
                </a:lnTo>
                <a:lnTo>
                  <a:pt x="54" y="106"/>
                </a:lnTo>
                <a:lnTo>
                  <a:pt x="49" y="106"/>
                </a:lnTo>
                <a:lnTo>
                  <a:pt x="1" y="65"/>
                </a:lnTo>
                <a:lnTo>
                  <a:pt x="0" y="53"/>
                </a:lnTo>
                <a:lnTo>
                  <a:pt x="0" y="49"/>
                </a:lnTo>
                <a:lnTo>
                  <a:pt x="41" y="2"/>
                </a:lnTo>
                <a:lnTo>
                  <a:pt x="54" y="0"/>
                </a:lnTo>
                <a:lnTo>
                  <a:pt x="58" y="0"/>
                </a:lnTo>
                <a:lnTo>
                  <a:pt x="105" y="40"/>
                </a:lnTo>
                <a:lnTo>
                  <a:pt x="106" y="53"/>
                </a:lnTo>
                <a:lnTo>
                  <a:pt x="106" y="57"/>
                </a:lnTo>
                <a:close/>
              </a:path>
            </a:pathLst>
          </a:custGeom>
          <a:solidFill>
            <a:srgbClr val="79a4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9"/>
          <p:cNvSpPr/>
          <p:nvPr/>
        </p:nvSpPr>
        <p:spPr>
          <a:xfrm>
            <a:off x="7156440" y="2233440"/>
            <a:ext cx="68400" cy="66960"/>
          </a:xfrm>
          <a:custGeom>
            <a:avLst/>
            <a:gdLst>
              <a:gd name="textAreaLeft" fmla="*/ 0 w 68400"/>
              <a:gd name="textAreaRight" fmla="*/ 68760 w 684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7" h="106">
                <a:moveTo>
                  <a:pt x="107" y="57"/>
                </a:moveTo>
                <a:lnTo>
                  <a:pt x="67" y="104"/>
                </a:lnTo>
                <a:lnTo>
                  <a:pt x="54" y="106"/>
                </a:lnTo>
                <a:lnTo>
                  <a:pt x="50" y="106"/>
                </a:lnTo>
                <a:lnTo>
                  <a:pt x="2" y="65"/>
                </a:lnTo>
                <a:lnTo>
                  <a:pt x="0" y="53"/>
                </a:lnTo>
                <a:lnTo>
                  <a:pt x="0" y="49"/>
                </a:lnTo>
                <a:lnTo>
                  <a:pt x="41" y="2"/>
                </a:lnTo>
                <a:lnTo>
                  <a:pt x="54" y="0"/>
                </a:lnTo>
                <a:lnTo>
                  <a:pt x="59" y="0"/>
                </a:lnTo>
                <a:lnTo>
                  <a:pt x="106" y="40"/>
                </a:lnTo>
                <a:lnTo>
                  <a:pt x="107" y="53"/>
                </a:lnTo>
                <a:lnTo>
                  <a:pt x="107" y="57"/>
                </a:lnTo>
                <a:close/>
              </a:path>
            </a:pathLst>
          </a:custGeom>
          <a:solidFill>
            <a:srgbClr val="79a4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20"/>
          <p:cNvSpPr/>
          <p:nvPr/>
        </p:nvSpPr>
        <p:spPr>
          <a:xfrm>
            <a:off x="6950160" y="2233440"/>
            <a:ext cx="66600" cy="66960"/>
          </a:xfrm>
          <a:custGeom>
            <a:avLst/>
            <a:gdLst>
              <a:gd name="textAreaLeft" fmla="*/ 0 w 66600"/>
              <a:gd name="textAreaRight" fmla="*/ 66960 w 666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6" h="106">
                <a:moveTo>
                  <a:pt x="54" y="0"/>
                </a:moveTo>
                <a:lnTo>
                  <a:pt x="2" y="36"/>
                </a:lnTo>
                <a:lnTo>
                  <a:pt x="0" y="53"/>
                </a:lnTo>
                <a:lnTo>
                  <a:pt x="0" y="57"/>
                </a:lnTo>
                <a:lnTo>
                  <a:pt x="41" y="104"/>
                </a:lnTo>
                <a:lnTo>
                  <a:pt x="54" y="106"/>
                </a:lnTo>
                <a:lnTo>
                  <a:pt x="58" y="106"/>
                </a:lnTo>
                <a:lnTo>
                  <a:pt x="105" y="65"/>
                </a:lnTo>
                <a:lnTo>
                  <a:pt x="106" y="53"/>
                </a:lnTo>
                <a:lnTo>
                  <a:pt x="106" y="49"/>
                </a:lnTo>
                <a:lnTo>
                  <a:pt x="66" y="2"/>
                </a:lnTo>
                <a:lnTo>
                  <a:pt x="5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7156440" y="2233440"/>
            <a:ext cx="68400" cy="66960"/>
          </a:xfrm>
          <a:custGeom>
            <a:avLst/>
            <a:gdLst>
              <a:gd name="textAreaLeft" fmla="*/ 0 w 68400"/>
              <a:gd name="textAreaRight" fmla="*/ 68760 w 68400"/>
              <a:gd name="textAreaTop" fmla="*/ 0 h 66960"/>
              <a:gd name="textAreaBottom" fmla="*/ 67320 h 66960"/>
            </a:gdLst>
            <a:ahLst/>
            <a:rect l="textAreaLeft" t="textAreaTop" r="textAreaRight" b="textAreaBottom"/>
            <a:pathLst>
              <a:path w="107" h="106">
                <a:moveTo>
                  <a:pt x="54" y="0"/>
                </a:moveTo>
                <a:lnTo>
                  <a:pt x="3" y="36"/>
                </a:lnTo>
                <a:lnTo>
                  <a:pt x="0" y="53"/>
                </a:lnTo>
                <a:lnTo>
                  <a:pt x="0" y="57"/>
                </a:lnTo>
                <a:lnTo>
                  <a:pt x="41" y="104"/>
                </a:lnTo>
                <a:lnTo>
                  <a:pt x="54" y="106"/>
                </a:lnTo>
                <a:lnTo>
                  <a:pt x="59" y="106"/>
                </a:lnTo>
                <a:lnTo>
                  <a:pt x="106" y="65"/>
                </a:lnTo>
                <a:lnTo>
                  <a:pt x="107" y="53"/>
                </a:lnTo>
                <a:lnTo>
                  <a:pt x="107" y="49"/>
                </a:lnTo>
                <a:lnTo>
                  <a:pt x="67" y="2"/>
                </a:lnTo>
                <a:lnTo>
                  <a:pt x="54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520" bIns="20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1332000" y="2903400"/>
            <a:ext cx="360" cy="505080"/>
          </a:xfrm>
          <a:custGeom>
            <a:avLst/>
            <a:gdLst/>
            <a:ahLst/>
            <a:rect l="l" t="t" r="r" b="b"/>
            <a:pathLst>
              <a:path w="0" h="795">
                <a:moveTo>
                  <a:pt x="0" y="0"/>
                </a:moveTo>
                <a:lnTo>
                  <a:pt x="0" y="79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1332000" y="3414600"/>
            <a:ext cx="287280" cy="76320"/>
          </a:xfrm>
          <a:custGeom>
            <a:avLst/>
            <a:gdLst>
              <a:gd name="textAreaLeft" fmla="*/ 0 w 287280"/>
              <a:gd name="textAreaRight" fmla="*/ 287640 w 28728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568" h="76200">
                <a:moveTo>
                  <a:pt x="0" y="0"/>
                </a:moveTo>
                <a:lnTo>
                  <a:pt x="56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9"/>
          <p:cNvGrpSpPr/>
          <p:nvPr/>
        </p:nvGrpSpPr>
        <p:grpSpPr>
          <a:xfrm>
            <a:off x="5805360" y="2976480"/>
            <a:ext cx="144720" cy="432360"/>
            <a:chOff x="5805360" y="2976480"/>
            <a:chExt cx="144720" cy="432360"/>
          </a:xfrm>
        </p:grpSpPr>
        <p:sp>
          <p:nvSpPr>
            <p:cNvPr id="255" name="Freeform 24"/>
            <p:cNvSpPr/>
            <p:nvPr/>
          </p:nvSpPr>
          <p:spPr>
            <a:xfrm>
              <a:off x="5805360" y="2976480"/>
              <a:ext cx="360" cy="432000"/>
            </a:xfrm>
            <a:custGeom>
              <a:avLst/>
              <a:gdLst/>
              <a:ahLst/>
              <a:rect l="l" t="t" r="r" b="b"/>
              <a:pathLst>
                <a:path w="0" h="681">
                  <a:moveTo>
                    <a:pt x="0" y="0"/>
                  </a:moveTo>
                  <a:lnTo>
                    <a:pt x="0" y="68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25"/>
            <p:cNvSpPr/>
            <p:nvPr/>
          </p:nvSpPr>
          <p:spPr>
            <a:xfrm>
              <a:off x="5805360" y="3408480"/>
              <a:ext cx="144720" cy="360"/>
            </a:xfrm>
            <a:custGeom>
              <a:avLst/>
              <a:gdLst/>
              <a:ahLst/>
              <a:rect l="l" t="t" r="r" b="b"/>
              <a:pathLst>
                <a:path w="228" h="0">
                  <a:moveTo>
                    <a:pt x="0" y="0"/>
                  </a:moveTo>
                  <a:lnTo>
                    <a:pt x="22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Picture 26" descr=""/>
          <p:cNvPicPr/>
          <p:nvPr/>
        </p:nvPicPr>
        <p:blipFill>
          <a:blip r:embed="rId2"/>
          <a:stretch/>
        </p:blipFill>
        <p:spPr>
          <a:xfrm>
            <a:off x="2124000" y="2133720"/>
            <a:ext cx="584280" cy="595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7" descr=""/>
          <p:cNvPicPr/>
          <p:nvPr/>
        </p:nvPicPr>
        <p:blipFill>
          <a:blip r:embed="rId3"/>
          <a:stretch/>
        </p:blipFill>
        <p:spPr>
          <a:xfrm>
            <a:off x="730080" y="1494000"/>
            <a:ext cx="1233720" cy="1584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8" descr="Manomettro Baja 407-1"/>
          <p:cNvPicPr/>
          <p:nvPr/>
        </p:nvPicPr>
        <p:blipFill>
          <a:blip r:embed="rId4"/>
          <a:stretch/>
        </p:blipFill>
        <p:spPr>
          <a:xfrm>
            <a:off x="682560" y="1494000"/>
            <a:ext cx="1297080" cy="135072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29"/>
          <p:cNvGrpSpPr/>
          <p:nvPr/>
        </p:nvGrpSpPr>
        <p:grpSpPr>
          <a:xfrm>
            <a:off x="695880" y="1527840"/>
            <a:ext cx="1265760" cy="1262520"/>
            <a:chOff x="695880" y="1527840"/>
            <a:chExt cx="1265760" cy="1262520"/>
          </a:xfrm>
        </p:grpSpPr>
        <p:pic>
          <p:nvPicPr>
            <p:cNvPr id="261" name="Picture 30" descr="Aguja manometro 1"/>
            <p:cNvPicPr/>
            <p:nvPr/>
          </p:nvPicPr>
          <p:blipFill>
            <a:blip r:embed="rId5"/>
            <a:stretch/>
          </p:blipFill>
          <p:spPr>
            <a:xfrm rot="18706200">
              <a:off x="890280" y="1701720"/>
              <a:ext cx="87624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31" descr="Eje"/>
            <p:cNvPicPr/>
            <p:nvPr/>
          </p:nvPicPr>
          <p:blipFill>
            <a:blip r:embed="rId6"/>
            <a:stretch/>
          </p:blipFill>
          <p:spPr>
            <a:xfrm rot="8904600">
              <a:off x="1249920" y="2090880"/>
              <a:ext cx="138240" cy="12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33"/>
          <p:cNvGrpSpPr/>
          <p:nvPr/>
        </p:nvGrpSpPr>
        <p:grpSpPr>
          <a:xfrm>
            <a:off x="5148360" y="1494000"/>
            <a:ext cx="1296720" cy="1584000"/>
            <a:chOff x="5148360" y="1494000"/>
            <a:chExt cx="1296720" cy="1584000"/>
          </a:xfrm>
        </p:grpSpPr>
        <p:pic>
          <p:nvPicPr>
            <p:cNvPr id="264" name="Picture 34" descr=""/>
            <p:cNvPicPr/>
            <p:nvPr/>
          </p:nvPicPr>
          <p:blipFill>
            <a:blip r:embed="rId7"/>
            <a:stretch/>
          </p:blipFill>
          <p:spPr>
            <a:xfrm>
              <a:off x="5195520" y="1494000"/>
              <a:ext cx="1233000" cy="158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35" descr="Manomettro Baja 407-1"/>
            <p:cNvPicPr/>
            <p:nvPr/>
          </p:nvPicPr>
          <p:blipFill>
            <a:blip r:embed="rId8"/>
            <a:stretch/>
          </p:blipFill>
          <p:spPr>
            <a:xfrm>
              <a:off x="5148360" y="1494000"/>
              <a:ext cx="1296720" cy="135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6" name="Group 36"/>
            <p:cNvGrpSpPr/>
            <p:nvPr/>
          </p:nvGrpSpPr>
          <p:grpSpPr>
            <a:xfrm>
              <a:off x="5234040" y="1610640"/>
              <a:ext cx="1120320" cy="1095840"/>
              <a:chOff x="5234040" y="1610640"/>
              <a:chExt cx="1120320" cy="1095840"/>
            </a:xfrm>
          </p:grpSpPr>
          <p:pic>
            <p:nvPicPr>
              <p:cNvPr id="267" name="Picture 37" descr="Aguja manometro 1"/>
              <p:cNvPicPr/>
              <p:nvPr/>
            </p:nvPicPr>
            <p:blipFill>
              <a:blip r:embed="rId9"/>
              <a:stretch/>
            </p:blipFill>
            <p:spPr>
              <a:xfrm rot="4438200">
                <a:off x="5355000" y="1701720"/>
                <a:ext cx="877680" cy="91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8" name="Picture 38" descr="Eje"/>
              <p:cNvPicPr/>
              <p:nvPr/>
            </p:nvPicPr>
            <p:blipFill>
              <a:blip r:embed="rId10"/>
              <a:stretch/>
            </p:blipFill>
            <p:spPr>
              <a:xfrm rot="16236600">
                <a:off x="5733000" y="2087280"/>
                <a:ext cx="138240" cy="129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70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5487840" y="1846440"/>
            <a:ext cx="3200400" cy="4103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Manomettro Baja 407-1"/>
          <p:cNvPicPr/>
          <p:nvPr/>
        </p:nvPicPr>
        <p:blipFill>
          <a:blip r:embed="rId2"/>
          <a:stretch/>
        </p:blipFill>
        <p:spPr>
          <a:xfrm>
            <a:off x="5364000" y="1846440"/>
            <a:ext cx="3365640" cy="349884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8"/>
          <p:cNvGrpSpPr/>
          <p:nvPr/>
        </p:nvGrpSpPr>
        <p:grpSpPr>
          <a:xfrm>
            <a:off x="5398920" y="1930680"/>
            <a:ext cx="3283200" cy="3276000"/>
            <a:chOff x="5398920" y="1930680"/>
            <a:chExt cx="3283200" cy="3276000"/>
          </a:xfrm>
        </p:grpSpPr>
        <p:pic>
          <p:nvPicPr>
            <p:cNvPr id="275" name="Picture 9" descr="Aguja manometro 1"/>
            <p:cNvPicPr/>
            <p:nvPr/>
          </p:nvPicPr>
          <p:blipFill>
            <a:blip r:embed="rId3"/>
            <a:stretch/>
          </p:blipFill>
          <p:spPr>
            <a:xfrm rot="18706200">
              <a:off x="5902200" y="2384280"/>
              <a:ext cx="2276640" cy="236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0" descr="Eje"/>
            <p:cNvPicPr/>
            <p:nvPr/>
          </p:nvPicPr>
          <p:blipFill>
            <a:blip r:embed="rId4"/>
            <a:stretch/>
          </p:blipFill>
          <p:spPr>
            <a:xfrm rot="8904600">
              <a:off x="6836760" y="3391920"/>
              <a:ext cx="358200" cy="335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7" name="Rectangle 27"/>
          <p:cNvSpPr/>
          <p:nvPr/>
        </p:nvSpPr>
        <p:spPr>
          <a:xfrm>
            <a:off x="5191200" y="2703600"/>
            <a:ext cx="3149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26"/>
          <p:cNvSpPr/>
          <p:nvPr/>
        </p:nvSpPr>
        <p:spPr>
          <a:xfrm>
            <a:off x="7020000" y="2565360"/>
            <a:ext cx="1224000" cy="24004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400480"/>
              <a:gd name="textAreaBottom" fmla="*/ 2400840 h 2400480"/>
            </a:gdLst>
            <a:ahLst/>
            <a:rect l="textAreaLeft" t="textAreaTop" r="textAreaRight" b="textAreaBottom"/>
            <a:pathLst>
              <a:path w="1927" h="3780">
                <a:moveTo>
                  <a:pt x="1923" y="2207"/>
                </a:moveTo>
                <a:lnTo>
                  <a:pt x="1912" y="2291"/>
                </a:lnTo>
                <a:lnTo>
                  <a:pt x="1893" y="2374"/>
                </a:lnTo>
                <a:lnTo>
                  <a:pt x="1867" y="2456"/>
                </a:lnTo>
                <a:lnTo>
                  <a:pt x="1834" y="2535"/>
                </a:lnTo>
                <a:lnTo>
                  <a:pt x="1795" y="2613"/>
                </a:lnTo>
                <a:lnTo>
                  <a:pt x="1749" y="2689"/>
                </a:lnTo>
                <a:lnTo>
                  <a:pt x="1696" y="2762"/>
                </a:lnTo>
                <a:lnTo>
                  <a:pt x="1638" y="2833"/>
                </a:lnTo>
                <a:lnTo>
                  <a:pt x="1573" y="2902"/>
                </a:lnTo>
                <a:lnTo>
                  <a:pt x="1503" y="2967"/>
                </a:lnTo>
                <a:lnTo>
                  <a:pt x="1427" y="3029"/>
                </a:lnTo>
                <a:lnTo>
                  <a:pt x="1346" y="3088"/>
                </a:lnTo>
                <a:lnTo>
                  <a:pt x="1259" y="3144"/>
                </a:lnTo>
                <a:lnTo>
                  <a:pt x="1168" y="3196"/>
                </a:lnTo>
                <a:lnTo>
                  <a:pt x="1071" y="3244"/>
                </a:lnTo>
                <a:lnTo>
                  <a:pt x="970" y="3289"/>
                </a:lnTo>
                <a:lnTo>
                  <a:pt x="865" y="3329"/>
                </a:lnTo>
                <a:lnTo>
                  <a:pt x="755" y="3364"/>
                </a:lnTo>
                <a:lnTo>
                  <a:pt x="642" y="3395"/>
                </a:lnTo>
                <a:lnTo>
                  <a:pt x="642" y="3780"/>
                </a:lnTo>
                <a:lnTo>
                  <a:pt x="0" y="3087"/>
                </a:lnTo>
                <a:lnTo>
                  <a:pt x="642" y="2237"/>
                </a:lnTo>
                <a:lnTo>
                  <a:pt x="642" y="2624"/>
                </a:lnTo>
                <a:lnTo>
                  <a:pt x="728" y="2601"/>
                </a:lnTo>
                <a:lnTo>
                  <a:pt x="812" y="2575"/>
                </a:lnTo>
                <a:lnTo>
                  <a:pt x="894" y="2546"/>
                </a:lnTo>
                <a:lnTo>
                  <a:pt x="973" y="2516"/>
                </a:lnTo>
                <a:lnTo>
                  <a:pt x="1050" y="2482"/>
                </a:lnTo>
                <a:lnTo>
                  <a:pt x="1125" y="2446"/>
                </a:lnTo>
                <a:lnTo>
                  <a:pt x="1197" y="2408"/>
                </a:lnTo>
                <a:lnTo>
                  <a:pt x="1266" y="2368"/>
                </a:lnTo>
                <a:lnTo>
                  <a:pt x="1332" y="2326"/>
                </a:lnTo>
                <a:lnTo>
                  <a:pt x="1396" y="2281"/>
                </a:lnTo>
                <a:lnTo>
                  <a:pt x="1456" y="2234"/>
                </a:lnTo>
                <a:lnTo>
                  <a:pt x="1513" y="2186"/>
                </a:lnTo>
                <a:lnTo>
                  <a:pt x="1568" y="2135"/>
                </a:lnTo>
                <a:lnTo>
                  <a:pt x="1618" y="2083"/>
                </a:lnTo>
                <a:lnTo>
                  <a:pt x="1666" y="2029"/>
                </a:lnTo>
                <a:lnTo>
                  <a:pt x="1709" y="1974"/>
                </a:lnTo>
                <a:lnTo>
                  <a:pt x="1749" y="1917"/>
                </a:lnTo>
                <a:lnTo>
                  <a:pt x="1786" y="1858"/>
                </a:lnTo>
                <a:lnTo>
                  <a:pt x="1818" y="1798"/>
                </a:lnTo>
                <a:lnTo>
                  <a:pt x="1846" y="1737"/>
                </a:lnTo>
                <a:lnTo>
                  <a:pt x="1806" y="1652"/>
                </a:lnTo>
                <a:lnTo>
                  <a:pt x="1759" y="1571"/>
                </a:lnTo>
                <a:lnTo>
                  <a:pt x="1704" y="1492"/>
                </a:lnTo>
                <a:lnTo>
                  <a:pt x="1643" y="1417"/>
                </a:lnTo>
                <a:lnTo>
                  <a:pt x="1575" y="1344"/>
                </a:lnTo>
                <a:lnTo>
                  <a:pt x="1501" y="1276"/>
                </a:lnTo>
                <a:lnTo>
                  <a:pt x="1422" y="1211"/>
                </a:lnTo>
                <a:lnTo>
                  <a:pt x="1337" y="1150"/>
                </a:lnTo>
                <a:lnTo>
                  <a:pt x="1246" y="1093"/>
                </a:lnTo>
                <a:lnTo>
                  <a:pt x="1151" y="1040"/>
                </a:lnTo>
                <a:lnTo>
                  <a:pt x="1052" y="991"/>
                </a:lnTo>
                <a:lnTo>
                  <a:pt x="948" y="947"/>
                </a:lnTo>
                <a:lnTo>
                  <a:pt x="840" y="907"/>
                </a:lnTo>
                <a:lnTo>
                  <a:pt x="728" y="872"/>
                </a:lnTo>
                <a:lnTo>
                  <a:pt x="613" y="842"/>
                </a:lnTo>
                <a:lnTo>
                  <a:pt x="496" y="817"/>
                </a:lnTo>
                <a:lnTo>
                  <a:pt x="375" y="798"/>
                </a:lnTo>
                <a:lnTo>
                  <a:pt x="252" y="783"/>
                </a:lnTo>
                <a:lnTo>
                  <a:pt x="127" y="775"/>
                </a:lnTo>
                <a:lnTo>
                  <a:pt x="0" y="772"/>
                </a:lnTo>
                <a:lnTo>
                  <a:pt x="0" y="0"/>
                </a:lnTo>
                <a:lnTo>
                  <a:pt x="158" y="5"/>
                </a:lnTo>
                <a:lnTo>
                  <a:pt x="312" y="18"/>
                </a:lnTo>
                <a:lnTo>
                  <a:pt x="463" y="40"/>
                </a:lnTo>
                <a:lnTo>
                  <a:pt x="609" y="69"/>
                </a:lnTo>
                <a:lnTo>
                  <a:pt x="750" y="106"/>
                </a:lnTo>
                <a:lnTo>
                  <a:pt x="885" y="151"/>
                </a:lnTo>
                <a:lnTo>
                  <a:pt x="1015" y="203"/>
                </a:lnTo>
                <a:lnTo>
                  <a:pt x="1138" y="261"/>
                </a:lnTo>
                <a:lnTo>
                  <a:pt x="1254" y="325"/>
                </a:lnTo>
                <a:lnTo>
                  <a:pt x="1362" y="396"/>
                </a:lnTo>
                <a:lnTo>
                  <a:pt x="1463" y="472"/>
                </a:lnTo>
                <a:lnTo>
                  <a:pt x="1555" y="553"/>
                </a:lnTo>
                <a:lnTo>
                  <a:pt x="1638" y="639"/>
                </a:lnTo>
                <a:lnTo>
                  <a:pt x="1712" y="730"/>
                </a:lnTo>
                <a:lnTo>
                  <a:pt x="1775" y="825"/>
                </a:lnTo>
                <a:lnTo>
                  <a:pt x="1829" y="924"/>
                </a:lnTo>
                <a:lnTo>
                  <a:pt x="1871" y="1026"/>
                </a:lnTo>
                <a:lnTo>
                  <a:pt x="1902" y="1131"/>
                </a:lnTo>
                <a:lnTo>
                  <a:pt x="1921" y="1240"/>
                </a:lnTo>
                <a:lnTo>
                  <a:pt x="1927" y="1350"/>
                </a:lnTo>
                <a:lnTo>
                  <a:pt x="1927" y="2122"/>
                </a:lnTo>
                <a:lnTo>
                  <a:pt x="1923" y="220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25"/>
          <p:cNvSpPr/>
          <p:nvPr/>
        </p:nvSpPr>
        <p:spPr>
          <a:xfrm>
            <a:off x="7020000" y="2565360"/>
            <a:ext cx="1224000" cy="134784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1347840"/>
              <a:gd name="textAreaBottom" fmla="*/ 1348200 h 1347840"/>
            </a:gdLst>
            <a:ahLst/>
            <a:rect l="textAreaLeft" t="textAreaTop" r="textAreaRight" b="textAreaBottom"/>
            <a:pathLst>
              <a:path w="1927" h="2122">
                <a:moveTo>
                  <a:pt x="1921" y="2011"/>
                </a:moveTo>
                <a:lnTo>
                  <a:pt x="1902" y="1903"/>
                </a:lnTo>
                <a:lnTo>
                  <a:pt x="1871" y="1798"/>
                </a:lnTo>
                <a:lnTo>
                  <a:pt x="1829" y="1695"/>
                </a:lnTo>
                <a:lnTo>
                  <a:pt x="1775" y="1597"/>
                </a:lnTo>
                <a:lnTo>
                  <a:pt x="1712" y="1502"/>
                </a:lnTo>
                <a:lnTo>
                  <a:pt x="1638" y="1411"/>
                </a:lnTo>
                <a:lnTo>
                  <a:pt x="1555" y="1325"/>
                </a:lnTo>
                <a:lnTo>
                  <a:pt x="1463" y="1243"/>
                </a:lnTo>
                <a:lnTo>
                  <a:pt x="1362" y="1167"/>
                </a:lnTo>
                <a:lnTo>
                  <a:pt x="1254" y="1097"/>
                </a:lnTo>
                <a:lnTo>
                  <a:pt x="1138" y="1032"/>
                </a:lnTo>
                <a:lnTo>
                  <a:pt x="1015" y="974"/>
                </a:lnTo>
                <a:lnTo>
                  <a:pt x="885" y="923"/>
                </a:lnTo>
                <a:lnTo>
                  <a:pt x="750" y="878"/>
                </a:lnTo>
                <a:lnTo>
                  <a:pt x="609" y="841"/>
                </a:lnTo>
                <a:lnTo>
                  <a:pt x="463" y="811"/>
                </a:lnTo>
                <a:lnTo>
                  <a:pt x="312" y="790"/>
                </a:lnTo>
                <a:lnTo>
                  <a:pt x="158" y="776"/>
                </a:lnTo>
                <a:lnTo>
                  <a:pt x="0" y="772"/>
                </a:lnTo>
                <a:lnTo>
                  <a:pt x="0" y="0"/>
                </a:lnTo>
                <a:lnTo>
                  <a:pt x="158" y="5"/>
                </a:lnTo>
                <a:lnTo>
                  <a:pt x="312" y="18"/>
                </a:lnTo>
                <a:lnTo>
                  <a:pt x="463" y="40"/>
                </a:lnTo>
                <a:lnTo>
                  <a:pt x="609" y="69"/>
                </a:lnTo>
                <a:lnTo>
                  <a:pt x="750" y="106"/>
                </a:lnTo>
                <a:lnTo>
                  <a:pt x="885" y="151"/>
                </a:lnTo>
                <a:lnTo>
                  <a:pt x="1015" y="203"/>
                </a:lnTo>
                <a:lnTo>
                  <a:pt x="1138" y="261"/>
                </a:lnTo>
                <a:lnTo>
                  <a:pt x="1254" y="325"/>
                </a:lnTo>
                <a:lnTo>
                  <a:pt x="1362" y="396"/>
                </a:lnTo>
                <a:lnTo>
                  <a:pt x="1463" y="472"/>
                </a:lnTo>
                <a:lnTo>
                  <a:pt x="1555" y="553"/>
                </a:lnTo>
                <a:lnTo>
                  <a:pt x="1638" y="639"/>
                </a:lnTo>
                <a:lnTo>
                  <a:pt x="1712" y="730"/>
                </a:lnTo>
                <a:lnTo>
                  <a:pt x="1775" y="825"/>
                </a:lnTo>
                <a:lnTo>
                  <a:pt x="1829" y="924"/>
                </a:lnTo>
                <a:lnTo>
                  <a:pt x="1871" y="1026"/>
                </a:lnTo>
                <a:lnTo>
                  <a:pt x="1902" y="1131"/>
                </a:lnTo>
                <a:lnTo>
                  <a:pt x="1921" y="1240"/>
                </a:lnTo>
                <a:lnTo>
                  <a:pt x="1927" y="1350"/>
                </a:lnTo>
                <a:lnTo>
                  <a:pt x="1927" y="2122"/>
                </a:lnTo>
                <a:lnTo>
                  <a:pt x="1921" y="2011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4"/>
          <p:cNvSpPr/>
          <p:nvPr/>
        </p:nvSpPr>
        <p:spPr>
          <a:xfrm>
            <a:off x="7020000" y="2565360"/>
            <a:ext cx="1224000" cy="240048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2400480"/>
              <a:gd name="textAreaBottom" fmla="*/ 2400840 h 2400480"/>
            </a:gdLst>
            <a:ahLst/>
            <a:rect l="textAreaLeft" t="textAreaTop" r="textAreaRight" b="textAreaBottom"/>
            <a:pathLst>
              <a:path w="1927" h="3780">
                <a:moveTo>
                  <a:pt x="0" y="0"/>
                </a:moveTo>
                <a:lnTo>
                  <a:pt x="158" y="5"/>
                </a:lnTo>
                <a:lnTo>
                  <a:pt x="312" y="18"/>
                </a:lnTo>
                <a:lnTo>
                  <a:pt x="463" y="40"/>
                </a:lnTo>
                <a:lnTo>
                  <a:pt x="609" y="69"/>
                </a:lnTo>
                <a:lnTo>
                  <a:pt x="750" y="106"/>
                </a:lnTo>
                <a:lnTo>
                  <a:pt x="885" y="151"/>
                </a:lnTo>
                <a:lnTo>
                  <a:pt x="1015" y="203"/>
                </a:lnTo>
                <a:lnTo>
                  <a:pt x="1138" y="261"/>
                </a:lnTo>
                <a:lnTo>
                  <a:pt x="1254" y="325"/>
                </a:lnTo>
                <a:lnTo>
                  <a:pt x="1362" y="396"/>
                </a:lnTo>
                <a:lnTo>
                  <a:pt x="1463" y="472"/>
                </a:lnTo>
                <a:lnTo>
                  <a:pt x="1555" y="553"/>
                </a:lnTo>
                <a:lnTo>
                  <a:pt x="1638" y="639"/>
                </a:lnTo>
                <a:lnTo>
                  <a:pt x="1712" y="730"/>
                </a:lnTo>
                <a:lnTo>
                  <a:pt x="1775" y="825"/>
                </a:lnTo>
                <a:lnTo>
                  <a:pt x="1829" y="924"/>
                </a:lnTo>
                <a:lnTo>
                  <a:pt x="1871" y="1026"/>
                </a:lnTo>
                <a:lnTo>
                  <a:pt x="1902" y="1131"/>
                </a:lnTo>
                <a:lnTo>
                  <a:pt x="1921" y="1240"/>
                </a:lnTo>
                <a:lnTo>
                  <a:pt x="1927" y="1350"/>
                </a:lnTo>
                <a:lnTo>
                  <a:pt x="1927" y="2122"/>
                </a:lnTo>
                <a:lnTo>
                  <a:pt x="1923" y="2207"/>
                </a:lnTo>
                <a:lnTo>
                  <a:pt x="1912" y="2291"/>
                </a:lnTo>
                <a:lnTo>
                  <a:pt x="1893" y="2374"/>
                </a:lnTo>
                <a:lnTo>
                  <a:pt x="1867" y="2456"/>
                </a:lnTo>
                <a:lnTo>
                  <a:pt x="1834" y="2535"/>
                </a:lnTo>
                <a:lnTo>
                  <a:pt x="1795" y="2613"/>
                </a:lnTo>
                <a:lnTo>
                  <a:pt x="1749" y="2689"/>
                </a:lnTo>
                <a:lnTo>
                  <a:pt x="1696" y="2762"/>
                </a:lnTo>
                <a:lnTo>
                  <a:pt x="1638" y="2833"/>
                </a:lnTo>
                <a:lnTo>
                  <a:pt x="1573" y="2902"/>
                </a:lnTo>
                <a:lnTo>
                  <a:pt x="1503" y="2967"/>
                </a:lnTo>
                <a:lnTo>
                  <a:pt x="1427" y="3029"/>
                </a:lnTo>
                <a:lnTo>
                  <a:pt x="1346" y="3088"/>
                </a:lnTo>
                <a:lnTo>
                  <a:pt x="1259" y="3144"/>
                </a:lnTo>
                <a:lnTo>
                  <a:pt x="1168" y="3196"/>
                </a:lnTo>
                <a:lnTo>
                  <a:pt x="1071" y="3244"/>
                </a:lnTo>
                <a:lnTo>
                  <a:pt x="970" y="3289"/>
                </a:lnTo>
                <a:lnTo>
                  <a:pt x="865" y="3329"/>
                </a:lnTo>
                <a:lnTo>
                  <a:pt x="755" y="3364"/>
                </a:lnTo>
                <a:lnTo>
                  <a:pt x="642" y="3395"/>
                </a:lnTo>
                <a:lnTo>
                  <a:pt x="642" y="3780"/>
                </a:lnTo>
                <a:lnTo>
                  <a:pt x="0" y="3087"/>
                </a:lnTo>
                <a:lnTo>
                  <a:pt x="642" y="2237"/>
                </a:lnTo>
                <a:lnTo>
                  <a:pt x="642" y="2624"/>
                </a:lnTo>
                <a:lnTo>
                  <a:pt x="728" y="2601"/>
                </a:lnTo>
                <a:lnTo>
                  <a:pt x="812" y="2575"/>
                </a:lnTo>
                <a:lnTo>
                  <a:pt x="894" y="2546"/>
                </a:lnTo>
                <a:lnTo>
                  <a:pt x="973" y="2516"/>
                </a:lnTo>
                <a:lnTo>
                  <a:pt x="1050" y="2482"/>
                </a:lnTo>
                <a:lnTo>
                  <a:pt x="1125" y="2446"/>
                </a:lnTo>
                <a:lnTo>
                  <a:pt x="1197" y="2408"/>
                </a:lnTo>
                <a:lnTo>
                  <a:pt x="1266" y="2368"/>
                </a:lnTo>
                <a:lnTo>
                  <a:pt x="1332" y="2326"/>
                </a:lnTo>
                <a:lnTo>
                  <a:pt x="1396" y="2281"/>
                </a:lnTo>
                <a:lnTo>
                  <a:pt x="1456" y="2234"/>
                </a:lnTo>
                <a:lnTo>
                  <a:pt x="1513" y="2186"/>
                </a:lnTo>
                <a:lnTo>
                  <a:pt x="1568" y="2135"/>
                </a:lnTo>
                <a:lnTo>
                  <a:pt x="1618" y="2083"/>
                </a:lnTo>
                <a:lnTo>
                  <a:pt x="1666" y="2029"/>
                </a:lnTo>
                <a:lnTo>
                  <a:pt x="1709" y="1974"/>
                </a:lnTo>
                <a:lnTo>
                  <a:pt x="1749" y="1917"/>
                </a:lnTo>
                <a:lnTo>
                  <a:pt x="1786" y="1858"/>
                </a:lnTo>
                <a:lnTo>
                  <a:pt x="1818" y="1798"/>
                </a:lnTo>
                <a:lnTo>
                  <a:pt x="1846" y="1737"/>
                </a:lnTo>
                <a:lnTo>
                  <a:pt x="1806" y="1652"/>
                </a:lnTo>
                <a:lnTo>
                  <a:pt x="1759" y="1571"/>
                </a:lnTo>
                <a:lnTo>
                  <a:pt x="1704" y="1492"/>
                </a:lnTo>
                <a:lnTo>
                  <a:pt x="1643" y="1417"/>
                </a:lnTo>
                <a:lnTo>
                  <a:pt x="1575" y="1344"/>
                </a:lnTo>
                <a:lnTo>
                  <a:pt x="1501" y="1276"/>
                </a:lnTo>
                <a:lnTo>
                  <a:pt x="1422" y="1211"/>
                </a:lnTo>
                <a:lnTo>
                  <a:pt x="1337" y="1150"/>
                </a:lnTo>
                <a:lnTo>
                  <a:pt x="1246" y="1093"/>
                </a:lnTo>
                <a:lnTo>
                  <a:pt x="1151" y="1040"/>
                </a:lnTo>
                <a:lnTo>
                  <a:pt x="1052" y="991"/>
                </a:lnTo>
                <a:lnTo>
                  <a:pt x="948" y="947"/>
                </a:lnTo>
                <a:lnTo>
                  <a:pt x="840" y="907"/>
                </a:lnTo>
                <a:lnTo>
                  <a:pt x="728" y="872"/>
                </a:lnTo>
                <a:lnTo>
                  <a:pt x="613" y="842"/>
                </a:lnTo>
                <a:lnTo>
                  <a:pt x="496" y="817"/>
                </a:lnTo>
                <a:lnTo>
                  <a:pt x="375" y="798"/>
                </a:lnTo>
                <a:lnTo>
                  <a:pt x="252" y="783"/>
                </a:lnTo>
                <a:lnTo>
                  <a:pt x="127" y="775"/>
                </a:lnTo>
                <a:lnTo>
                  <a:pt x="0" y="7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3"/>
          <p:cNvSpPr/>
          <p:nvPr/>
        </p:nvSpPr>
        <p:spPr>
          <a:xfrm>
            <a:off x="7831080" y="4381560"/>
            <a:ext cx="50760" cy="244440"/>
          </a:xfrm>
          <a:custGeom>
            <a:avLst/>
            <a:gdLst>
              <a:gd name="textAreaLeft" fmla="*/ 0 w 50760"/>
              <a:gd name="textAreaRight" fmla="*/ 51120 w 507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81" h="385">
                <a:moveTo>
                  <a:pt x="81" y="385"/>
                </a:moveTo>
                <a:lnTo>
                  <a:pt x="78" y="307"/>
                </a:lnTo>
                <a:lnTo>
                  <a:pt x="68" y="229"/>
                </a:lnTo>
                <a:lnTo>
                  <a:pt x="52" y="152"/>
                </a:lnTo>
                <a:lnTo>
                  <a:pt x="29" y="75"/>
                </a:lnTo>
                <a:lnTo>
                  <a:pt x="8" y="1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Group 35"/>
          <p:cNvGrpSpPr/>
          <p:nvPr/>
        </p:nvGrpSpPr>
        <p:grpSpPr>
          <a:xfrm>
            <a:off x="4572000" y="4797360"/>
            <a:ext cx="1150920" cy="1224000"/>
            <a:chOff x="4572000" y="4797360"/>
            <a:chExt cx="1150920" cy="1224000"/>
          </a:xfrm>
        </p:grpSpPr>
        <p:grpSp>
          <p:nvGrpSpPr>
            <p:cNvPr id="283" name="Group 15"/>
            <p:cNvGrpSpPr/>
            <p:nvPr/>
          </p:nvGrpSpPr>
          <p:grpSpPr>
            <a:xfrm>
              <a:off x="4572000" y="4797360"/>
              <a:ext cx="1150560" cy="1224000"/>
              <a:chOff x="4572000" y="4797360"/>
              <a:chExt cx="1150560" cy="1224000"/>
            </a:xfrm>
          </p:grpSpPr>
          <p:sp>
            <p:nvSpPr>
              <p:cNvPr id="284" name="Freeform 22"/>
              <p:cNvSpPr/>
              <p:nvPr/>
            </p:nvSpPr>
            <p:spPr>
              <a:xfrm>
                <a:off x="4572000" y="5005440"/>
                <a:ext cx="143280" cy="80784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807840"/>
                  <a:gd name="textAreaBottom" fmla="*/ 808200 h 807840"/>
                </a:gdLst>
                <a:ahLst/>
                <a:rect l="textAreaLeft" t="textAreaTop" r="textAreaRight" b="textAreaBottom"/>
                <a:pathLst>
                  <a:path w="226" h="1272">
                    <a:moveTo>
                      <a:pt x="0" y="636"/>
                    </a:moveTo>
                    <a:lnTo>
                      <a:pt x="0" y="636"/>
                    </a:lnTo>
                    <a:lnTo>
                      <a:pt x="4" y="557"/>
                    </a:lnTo>
                    <a:lnTo>
                      <a:pt x="12" y="480"/>
                    </a:lnTo>
                    <a:lnTo>
                      <a:pt x="27" y="405"/>
                    </a:lnTo>
                    <a:lnTo>
                      <a:pt x="47" y="332"/>
                    </a:lnTo>
                    <a:lnTo>
                      <a:pt x="72" y="261"/>
                    </a:lnTo>
                    <a:lnTo>
                      <a:pt x="102" y="193"/>
                    </a:lnTo>
                    <a:lnTo>
                      <a:pt x="136" y="129"/>
                    </a:lnTo>
                    <a:lnTo>
                      <a:pt x="175" y="67"/>
                    </a:lnTo>
                    <a:lnTo>
                      <a:pt x="219" y="9"/>
                    </a:lnTo>
                    <a:lnTo>
                      <a:pt x="226" y="0"/>
                    </a:lnTo>
                    <a:lnTo>
                      <a:pt x="226" y="1272"/>
                    </a:lnTo>
                    <a:lnTo>
                      <a:pt x="219" y="1263"/>
                    </a:lnTo>
                    <a:lnTo>
                      <a:pt x="175" y="1205"/>
                    </a:lnTo>
                    <a:lnTo>
                      <a:pt x="136" y="1144"/>
                    </a:lnTo>
                    <a:lnTo>
                      <a:pt x="102" y="1079"/>
                    </a:lnTo>
                    <a:lnTo>
                      <a:pt x="72" y="1011"/>
                    </a:lnTo>
                    <a:lnTo>
                      <a:pt x="12" y="792"/>
                    </a:lnTo>
                    <a:lnTo>
                      <a:pt x="4" y="715"/>
                    </a:lnTo>
                    <a:lnTo>
                      <a:pt x="0" y="6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21"/>
              <p:cNvSpPr/>
              <p:nvPr/>
            </p:nvSpPr>
            <p:spPr>
              <a:xfrm>
                <a:off x="4715280" y="4858560"/>
                <a:ext cx="182160" cy="550800"/>
              </a:xfrm>
              <a:custGeom>
                <a:avLst/>
                <a:gdLst>
                  <a:gd name="textAreaLeft" fmla="*/ 0 w 182160"/>
                  <a:gd name="textAreaRight" fmla="*/ 182520 w 182160"/>
                  <a:gd name="textAreaTop" fmla="*/ 0 h 550800"/>
                  <a:gd name="textAreaBottom" fmla="*/ 551160 h 550800"/>
                </a:gdLst>
                <a:ahLst/>
                <a:rect l="textAreaLeft" t="textAreaTop" r="textAreaRight" b="textAreaBottom"/>
                <a:pathLst>
                  <a:path w="287" h="867">
                    <a:moveTo>
                      <a:pt x="0" y="231"/>
                    </a:moveTo>
                    <a:lnTo>
                      <a:pt x="0" y="231"/>
                    </a:lnTo>
                    <a:lnTo>
                      <a:pt x="1" y="230"/>
                    </a:lnTo>
                    <a:lnTo>
                      <a:pt x="3" y="228"/>
                    </a:lnTo>
                    <a:lnTo>
                      <a:pt x="5" y="225"/>
                    </a:lnTo>
                    <a:lnTo>
                      <a:pt x="8" y="222"/>
                    </a:lnTo>
                    <a:lnTo>
                      <a:pt x="12" y="218"/>
                    </a:lnTo>
                    <a:lnTo>
                      <a:pt x="16" y="213"/>
                    </a:lnTo>
                    <a:lnTo>
                      <a:pt x="21" y="207"/>
                    </a:lnTo>
                    <a:lnTo>
                      <a:pt x="26" y="201"/>
                    </a:lnTo>
                    <a:lnTo>
                      <a:pt x="32" y="194"/>
                    </a:lnTo>
                    <a:lnTo>
                      <a:pt x="39" y="187"/>
                    </a:lnTo>
                    <a:lnTo>
                      <a:pt x="40" y="186"/>
                    </a:lnTo>
                    <a:lnTo>
                      <a:pt x="46" y="179"/>
                    </a:lnTo>
                    <a:lnTo>
                      <a:pt x="54" y="171"/>
                    </a:lnTo>
                    <a:lnTo>
                      <a:pt x="63" y="163"/>
                    </a:lnTo>
                    <a:lnTo>
                      <a:pt x="72" y="154"/>
                    </a:lnTo>
                    <a:lnTo>
                      <a:pt x="82" y="145"/>
                    </a:lnTo>
                    <a:lnTo>
                      <a:pt x="91" y="135"/>
                    </a:lnTo>
                    <a:lnTo>
                      <a:pt x="92" y="135"/>
                    </a:lnTo>
                    <a:lnTo>
                      <a:pt x="103" y="125"/>
                    </a:lnTo>
                    <a:lnTo>
                      <a:pt x="114" y="116"/>
                    </a:lnTo>
                    <a:lnTo>
                      <a:pt x="126" y="106"/>
                    </a:lnTo>
                    <a:lnTo>
                      <a:pt x="145" y="89"/>
                    </a:lnTo>
                    <a:lnTo>
                      <a:pt x="203" y="48"/>
                    </a:lnTo>
                    <a:lnTo>
                      <a:pt x="264" y="11"/>
                    </a:lnTo>
                    <a:lnTo>
                      <a:pt x="287" y="0"/>
                    </a:lnTo>
                    <a:lnTo>
                      <a:pt x="287" y="619"/>
                    </a:lnTo>
                    <a:lnTo>
                      <a:pt x="264" y="595"/>
                    </a:lnTo>
                    <a:lnTo>
                      <a:pt x="203" y="530"/>
                    </a:lnTo>
                    <a:lnTo>
                      <a:pt x="145" y="469"/>
                    </a:lnTo>
                    <a:lnTo>
                      <a:pt x="126" y="448"/>
                    </a:lnTo>
                    <a:lnTo>
                      <a:pt x="114" y="467"/>
                    </a:lnTo>
                    <a:lnTo>
                      <a:pt x="103" y="486"/>
                    </a:lnTo>
                    <a:lnTo>
                      <a:pt x="72" y="544"/>
                    </a:lnTo>
                    <a:lnTo>
                      <a:pt x="46" y="605"/>
                    </a:lnTo>
                    <a:lnTo>
                      <a:pt x="26" y="668"/>
                    </a:lnTo>
                    <a:lnTo>
                      <a:pt x="12" y="733"/>
                    </a:lnTo>
                    <a:lnTo>
                      <a:pt x="3" y="800"/>
                    </a:lnTo>
                    <a:lnTo>
                      <a:pt x="0" y="844"/>
                    </a:lnTo>
                    <a:lnTo>
                      <a:pt x="0" y="86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20"/>
              <p:cNvSpPr/>
              <p:nvPr/>
            </p:nvSpPr>
            <p:spPr>
              <a:xfrm>
                <a:off x="4715280" y="5409720"/>
                <a:ext cx="682200" cy="611640"/>
              </a:xfrm>
              <a:custGeom>
                <a:avLst/>
                <a:gdLst>
                  <a:gd name="textAreaLeft" fmla="*/ 0 w 682200"/>
                  <a:gd name="textAreaRight" fmla="*/ 682560 w 682200"/>
                  <a:gd name="textAreaTop" fmla="*/ 0 h 611640"/>
                  <a:gd name="textAreaBottom" fmla="*/ 612000 h 611640"/>
                </a:gdLst>
                <a:ahLst/>
                <a:rect l="textAreaLeft" t="textAreaTop" r="textAreaRight" b="textAreaBottom"/>
                <a:pathLst>
                  <a:path w="1074" h="963">
                    <a:moveTo>
                      <a:pt x="0" y="0"/>
                    </a:moveTo>
                    <a:lnTo>
                      <a:pt x="9" y="117"/>
                    </a:lnTo>
                    <a:lnTo>
                      <a:pt x="35" y="229"/>
                    </a:lnTo>
                    <a:lnTo>
                      <a:pt x="40" y="243"/>
                    </a:lnTo>
                    <a:lnTo>
                      <a:pt x="54" y="282"/>
                    </a:lnTo>
                    <a:lnTo>
                      <a:pt x="91" y="360"/>
                    </a:lnTo>
                    <a:lnTo>
                      <a:pt x="131" y="427"/>
                    </a:lnTo>
                    <a:lnTo>
                      <a:pt x="145" y="446"/>
                    </a:lnTo>
                    <a:lnTo>
                      <a:pt x="164" y="471"/>
                    </a:lnTo>
                    <a:lnTo>
                      <a:pt x="199" y="512"/>
                    </a:lnTo>
                    <a:lnTo>
                      <a:pt x="203" y="515"/>
                    </a:lnTo>
                    <a:lnTo>
                      <a:pt x="238" y="549"/>
                    </a:lnTo>
                    <a:lnTo>
                      <a:pt x="264" y="572"/>
                    </a:lnTo>
                    <a:lnTo>
                      <a:pt x="279" y="584"/>
                    </a:lnTo>
                    <a:lnTo>
                      <a:pt x="322" y="615"/>
                    </a:lnTo>
                    <a:lnTo>
                      <a:pt x="328" y="619"/>
                    </a:lnTo>
                    <a:lnTo>
                      <a:pt x="368" y="643"/>
                    </a:lnTo>
                    <a:lnTo>
                      <a:pt x="394" y="656"/>
                    </a:lnTo>
                    <a:lnTo>
                      <a:pt x="416" y="667"/>
                    </a:lnTo>
                    <a:lnTo>
                      <a:pt x="463" y="686"/>
                    </a:lnTo>
                    <a:lnTo>
                      <a:pt x="466" y="687"/>
                    </a:lnTo>
                    <a:lnTo>
                      <a:pt x="517" y="702"/>
                    </a:lnTo>
                    <a:lnTo>
                      <a:pt x="534" y="706"/>
                    </a:lnTo>
                    <a:lnTo>
                      <a:pt x="570" y="714"/>
                    </a:lnTo>
                    <a:lnTo>
                      <a:pt x="606" y="719"/>
                    </a:lnTo>
                    <a:lnTo>
                      <a:pt x="625" y="721"/>
                    </a:lnTo>
                    <a:lnTo>
                      <a:pt x="680" y="723"/>
                    </a:lnTo>
                    <a:lnTo>
                      <a:pt x="702" y="723"/>
                    </a:lnTo>
                    <a:lnTo>
                      <a:pt x="723" y="722"/>
                    </a:lnTo>
                    <a:lnTo>
                      <a:pt x="743" y="720"/>
                    </a:lnTo>
                    <a:lnTo>
                      <a:pt x="755" y="719"/>
                    </a:lnTo>
                    <a:lnTo>
                      <a:pt x="764" y="718"/>
                    </a:lnTo>
                    <a:lnTo>
                      <a:pt x="826" y="707"/>
                    </a:lnTo>
                    <a:lnTo>
                      <a:pt x="887" y="689"/>
                    </a:lnTo>
                    <a:lnTo>
                      <a:pt x="946" y="666"/>
                    </a:lnTo>
                    <a:lnTo>
                      <a:pt x="967" y="656"/>
                    </a:lnTo>
                    <a:lnTo>
                      <a:pt x="984" y="647"/>
                    </a:lnTo>
                    <a:lnTo>
                      <a:pt x="1039" y="614"/>
                    </a:lnTo>
                    <a:lnTo>
                      <a:pt x="1074" y="589"/>
                    </a:lnTo>
                    <a:lnTo>
                      <a:pt x="1074" y="867"/>
                    </a:lnTo>
                    <a:lnTo>
                      <a:pt x="1057" y="876"/>
                    </a:lnTo>
                    <a:lnTo>
                      <a:pt x="1039" y="885"/>
                    </a:lnTo>
                    <a:lnTo>
                      <a:pt x="1033" y="888"/>
                    </a:lnTo>
                    <a:lnTo>
                      <a:pt x="1021" y="893"/>
                    </a:lnTo>
                    <a:lnTo>
                      <a:pt x="1002" y="900"/>
                    </a:lnTo>
                    <a:lnTo>
                      <a:pt x="984" y="908"/>
                    </a:lnTo>
                    <a:lnTo>
                      <a:pt x="967" y="914"/>
                    </a:lnTo>
                    <a:lnTo>
                      <a:pt x="965" y="915"/>
                    </a:lnTo>
                    <a:lnTo>
                      <a:pt x="946" y="921"/>
                    </a:lnTo>
                    <a:lnTo>
                      <a:pt x="926" y="927"/>
                    </a:lnTo>
                    <a:lnTo>
                      <a:pt x="907" y="933"/>
                    </a:lnTo>
                    <a:lnTo>
                      <a:pt x="898" y="936"/>
                    </a:lnTo>
                    <a:lnTo>
                      <a:pt x="887" y="938"/>
                    </a:lnTo>
                    <a:lnTo>
                      <a:pt x="867" y="942"/>
                    </a:lnTo>
                    <a:lnTo>
                      <a:pt x="847" y="947"/>
                    </a:lnTo>
                    <a:lnTo>
                      <a:pt x="827" y="951"/>
                    </a:lnTo>
                    <a:lnTo>
                      <a:pt x="826" y="951"/>
                    </a:lnTo>
                    <a:lnTo>
                      <a:pt x="806" y="954"/>
                    </a:lnTo>
                    <a:lnTo>
                      <a:pt x="785" y="956"/>
                    </a:lnTo>
                    <a:lnTo>
                      <a:pt x="764" y="959"/>
                    </a:lnTo>
                    <a:lnTo>
                      <a:pt x="755" y="960"/>
                    </a:lnTo>
                    <a:lnTo>
                      <a:pt x="743" y="961"/>
                    </a:lnTo>
                    <a:lnTo>
                      <a:pt x="723" y="962"/>
                    </a:lnTo>
                    <a:lnTo>
                      <a:pt x="702" y="963"/>
                    </a:lnTo>
                    <a:lnTo>
                      <a:pt x="680" y="963"/>
                    </a:lnTo>
                    <a:lnTo>
                      <a:pt x="625" y="961"/>
                    </a:lnTo>
                    <a:lnTo>
                      <a:pt x="606" y="960"/>
                    </a:lnTo>
                    <a:lnTo>
                      <a:pt x="570" y="956"/>
                    </a:lnTo>
                    <a:lnTo>
                      <a:pt x="534" y="951"/>
                    </a:lnTo>
                    <a:lnTo>
                      <a:pt x="517" y="947"/>
                    </a:lnTo>
                    <a:lnTo>
                      <a:pt x="466" y="936"/>
                    </a:lnTo>
                    <a:lnTo>
                      <a:pt x="463" y="936"/>
                    </a:lnTo>
                    <a:lnTo>
                      <a:pt x="416" y="921"/>
                    </a:lnTo>
                    <a:lnTo>
                      <a:pt x="394" y="914"/>
                    </a:lnTo>
                    <a:lnTo>
                      <a:pt x="368" y="904"/>
                    </a:lnTo>
                    <a:lnTo>
                      <a:pt x="328" y="888"/>
                    </a:lnTo>
                    <a:lnTo>
                      <a:pt x="322" y="885"/>
                    </a:lnTo>
                    <a:lnTo>
                      <a:pt x="279" y="863"/>
                    </a:lnTo>
                    <a:lnTo>
                      <a:pt x="264" y="856"/>
                    </a:lnTo>
                    <a:lnTo>
                      <a:pt x="238" y="840"/>
                    </a:lnTo>
                    <a:lnTo>
                      <a:pt x="203" y="819"/>
                    </a:lnTo>
                    <a:lnTo>
                      <a:pt x="199" y="817"/>
                    </a:lnTo>
                    <a:lnTo>
                      <a:pt x="164" y="791"/>
                    </a:lnTo>
                    <a:lnTo>
                      <a:pt x="102" y="741"/>
                    </a:lnTo>
                    <a:lnTo>
                      <a:pt x="54" y="695"/>
                    </a:lnTo>
                    <a:lnTo>
                      <a:pt x="40" y="681"/>
                    </a:lnTo>
                    <a:lnTo>
                      <a:pt x="35" y="676"/>
                    </a:lnTo>
                    <a:lnTo>
                      <a:pt x="20" y="659"/>
                    </a:lnTo>
                    <a:lnTo>
                      <a:pt x="9" y="646"/>
                    </a:lnTo>
                    <a:lnTo>
                      <a:pt x="2" y="638"/>
                    </a:lnTo>
                    <a:lnTo>
                      <a:pt x="0" y="636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9"/>
              <p:cNvSpPr/>
              <p:nvPr/>
            </p:nvSpPr>
            <p:spPr>
              <a:xfrm>
                <a:off x="4897800" y="4797360"/>
                <a:ext cx="681480" cy="612360"/>
              </a:xfrm>
              <a:custGeom>
                <a:avLst/>
                <a:gdLst>
                  <a:gd name="textAreaLeft" fmla="*/ 0 w 681480"/>
                  <a:gd name="textAreaRight" fmla="*/ 681840 w 681480"/>
                  <a:gd name="textAreaTop" fmla="*/ 0 h 612360"/>
                  <a:gd name="textAreaBottom" fmla="*/ 612720 h 612360"/>
                </a:gdLst>
                <a:ahLst/>
                <a:rect l="textAreaLeft" t="textAreaTop" r="textAreaRight" b="textAreaBottom"/>
                <a:pathLst>
                  <a:path w="1073" h="964">
                    <a:moveTo>
                      <a:pt x="0" y="97"/>
                    </a:moveTo>
                    <a:lnTo>
                      <a:pt x="17" y="88"/>
                    </a:lnTo>
                    <a:lnTo>
                      <a:pt x="35" y="79"/>
                    </a:lnTo>
                    <a:lnTo>
                      <a:pt x="41" y="76"/>
                    </a:lnTo>
                    <a:lnTo>
                      <a:pt x="53" y="71"/>
                    </a:lnTo>
                    <a:lnTo>
                      <a:pt x="71" y="64"/>
                    </a:lnTo>
                    <a:lnTo>
                      <a:pt x="90" y="57"/>
                    </a:lnTo>
                    <a:lnTo>
                      <a:pt x="107" y="49"/>
                    </a:lnTo>
                    <a:lnTo>
                      <a:pt x="108" y="49"/>
                    </a:lnTo>
                    <a:lnTo>
                      <a:pt x="128" y="43"/>
                    </a:lnTo>
                    <a:lnTo>
                      <a:pt x="147" y="37"/>
                    </a:lnTo>
                    <a:lnTo>
                      <a:pt x="167" y="31"/>
                    </a:lnTo>
                    <a:lnTo>
                      <a:pt x="176" y="28"/>
                    </a:lnTo>
                    <a:lnTo>
                      <a:pt x="186" y="26"/>
                    </a:lnTo>
                    <a:lnTo>
                      <a:pt x="206" y="22"/>
                    </a:lnTo>
                    <a:lnTo>
                      <a:pt x="227" y="17"/>
                    </a:lnTo>
                    <a:lnTo>
                      <a:pt x="247" y="13"/>
                    </a:lnTo>
                    <a:lnTo>
                      <a:pt x="268" y="10"/>
                    </a:lnTo>
                    <a:lnTo>
                      <a:pt x="288" y="8"/>
                    </a:lnTo>
                    <a:lnTo>
                      <a:pt x="309" y="5"/>
                    </a:lnTo>
                    <a:lnTo>
                      <a:pt x="319" y="3"/>
                    </a:lnTo>
                    <a:lnTo>
                      <a:pt x="330" y="3"/>
                    </a:lnTo>
                    <a:lnTo>
                      <a:pt x="351" y="2"/>
                    </a:lnTo>
                    <a:lnTo>
                      <a:pt x="372" y="1"/>
                    </a:lnTo>
                    <a:lnTo>
                      <a:pt x="393" y="0"/>
                    </a:lnTo>
                    <a:lnTo>
                      <a:pt x="449" y="3"/>
                    </a:lnTo>
                    <a:lnTo>
                      <a:pt x="468" y="3"/>
                    </a:lnTo>
                    <a:lnTo>
                      <a:pt x="504" y="8"/>
                    </a:lnTo>
                    <a:lnTo>
                      <a:pt x="540" y="13"/>
                    </a:lnTo>
                    <a:lnTo>
                      <a:pt x="557" y="17"/>
                    </a:lnTo>
                    <a:lnTo>
                      <a:pt x="608" y="28"/>
                    </a:lnTo>
                    <a:lnTo>
                      <a:pt x="611" y="28"/>
                    </a:lnTo>
                    <a:lnTo>
                      <a:pt x="658" y="43"/>
                    </a:lnTo>
                    <a:lnTo>
                      <a:pt x="680" y="49"/>
                    </a:lnTo>
                    <a:lnTo>
                      <a:pt x="706" y="60"/>
                    </a:lnTo>
                    <a:lnTo>
                      <a:pt x="746" y="76"/>
                    </a:lnTo>
                    <a:lnTo>
                      <a:pt x="751" y="79"/>
                    </a:lnTo>
                    <a:lnTo>
                      <a:pt x="795" y="100"/>
                    </a:lnTo>
                    <a:lnTo>
                      <a:pt x="810" y="108"/>
                    </a:lnTo>
                    <a:lnTo>
                      <a:pt x="836" y="124"/>
                    </a:lnTo>
                    <a:lnTo>
                      <a:pt x="871" y="145"/>
                    </a:lnTo>
                    <a:lnTo>
                      <a:pt x="874" y="147"/>
                    </a:lnTo>
                    <a:lnTo>
                      <a:pt x="909" y="173"/>
                    </a:lnTo>
                    <a:lnTo>
                      <a:pt x="929" y="186"/>
                    </a:lnTo>
                    <a:lnTo>
                      <a:pt x="942" y="198"/>
                    </a:lnTo>
                    <a:lnTo>
                      <a:pt x="971" y="222"/>
                    </a:lnTo>
                    <a:lnTo>
                      <a:pt x="983" y="232"/>
                    </a:lnTo>
                    <a:lnTo>
                      <a:pt x="997" y="246"/>
                    </a:lnTo>
                    <a:lnTo>
                      <a:pt x="1019" y="268"/>
                    </a:lnTo>
                    <a:lnTo>
                      <a:pt x="1034" y="283"/>
                    </a:lnTo>
                    <a:lnTo>
                      <a:pt x="1038" y="287"/>
                    </a:lnTo>
                    <a:lnTo>
                      <a:pt x="1053" y="304"/>
                    </a:lnTo>
                    <a:lnTo>
                      <a:pt x="1064" y="317"/>
                    </a:lnTo>
                    <a:lnTo>
                      <a:pt x="1070" y="324"/>
                    </a:lnTo>
                    <a:lnTo>
                      <a:pt x="1073" y="327"/>
                    </a:lnTo>
                    <a:lnTo>
                      <a:pt x="1073" y="964"/>
                    </a:lnTo>
                    <a:lnTo>
                      <a:pt x="1070" y="905"/>
                    </a:lnTo>
                    <a:lnTo>
                      <a:pt x="1064" y="847"/>
                    </a:lnTo>
                    <a:lnTo>
                      <a:pt x="1053" y="790"/>
                    </a:lnTo>
                    <a:lnTo>
                      <a:pt x="1038" y="736"/>
                    </a:lnTo>
                    <a:lnTo>
                      <a:pt x="1034" y="725"/>
                    </a:lnTo>
                    <a:lnTo>
                      <a:pt x="1019" y="683"/>
                    </a:lnTo>
                    <a:lnTo>
                      <a:pt x="997" y="632"/>
                    </a:lnTo>
                    <a:lnTo>
                      <a:pt x="983" y="606"/>
                    </a:lnTo>
                    <a:lnTo>
                      <a:pt x="971" y="584"/>
                    </a:lnTo>
                    <a:lnTo>
                      <a:pt x="942" y="538"/>
                    </a:lnTo>
                    <a:lnTo>
                      <a:pt x="929" y="520"/>
                    </a:lnTo>
                    <a:lnTo>
                      <a:pt x="909" y="494"/>
                    </a:lnTo>
                    <a:lnTo>
                      <a:pt x="836" y="416"/>
                    </a:lnTo>
                    <a:lnTo>
                      <a:pt x="751" y="350"/>
                    </a:lnTo>
                    <a:lnTo>
                      <a:pt x="680" y="309"/>
                    </a:lnTo>
                    <a:lnTo>
                      <a:pt x="658" y="298"/>
                    </a:lnTo>
                    <a:lnTo>
                      <a:pt x="611" y="280"/>
                    </a:lnTo>
                    <a:lnTo>
                      <a:pt x="608" y="278"/>
                    </a:lnTo>
                    <a:lnTo>
                      <a:pt x="557" y="263"/>
                    </a:lnTo>
                    <a:lnTo>
                      <a:pt x="540" y="259"/>
                    </a:lnTo>
                    <a:lnTo>
                      <a:pt x="504" y="251"/>
                    </a:lnTo>
                    <a:lnTo>
                      <a:pt x="468" y="246"/>
                    </a:lnTo>
                    <a:lnTo>
                      <a:pt x="449" y="244"/>
                    </a:lnTo>
                    <a:lnTo>
                      <a:pt x="393" y="241"/>
                    </a:lnTo>
                    <a:lnTo>
                      <a:pt x="372" y="242"/>
                    </a:lnTo>
                    <a:lnTo>
                      <a:pt x="351" y="243"/>
                    </a:lnTo>
                    <a:lnTo>
                      <a:pt x="288" y="250"/>
                    </a:lnTo>
                    <a:lnTo>
                      <a:pt x="247" y="259"/>
                    </a:lnTo>
                    <a:lnTo>
                      <a:pt x="227" y="264"/>
                    </a:lnTo>
                    <a:lnTo>
                      <a:pt x="167" y="283"/>
                    </a:lnTo>
                    <a:lnTo>
                      <a:pt x="108" y="308"/>
                    </a:lnTo>
                    <a:lnTo>
                      <a:pt x="53" y="339"/>
                    </a:lnTo>
                    <a:lnTo>
                      <a:pt x="17" y="362"/>
                    </a:lnTo>
                    <a:lnTo>
                      <a:pt x="0" y="375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8"/>
              <p:cNvSpPr/>
              <p:nvPr/>
            </p:nvSpPr>
            <p:spPr>
              <a:xfrm>
                <a:off x="4897800" y="5035320"/>
                <a:ext cx="499680" cy="748440"/>
              </a:xfrm>
              <a:custGeom>
                <a:avLst/>
                <a:gdLst>
                  <a:gd name="textAreaLeft" fmla="*/ 0 w 499680"/>
                  <a:gd name="textAreaRight" fmla="*/ 500040 w 499680"/>
                  <a:gd name="textAreaTop" fmla="*/ 0 h 748440"/>
                  <a:gd name="textAreaBottom" fmla="*/ 748800 h 748440"/>
                </a:gdLst>
                <a:ahLst/>
                <a:rect l="textAreaLeft" t="textAreaTop" r="textAreaRight" b="textAreaBottom"/>
                <a:pathLst>
                  <a:path w="787" h="1178">
                    <a:moveTo>
                      <a:pt x="0" y="0"/>
                    </a:moveTo>
                    <a:lnTo>
                      <a:pt x="787" y="838"/>
                    </a:lnTo>
                    <a:lnTo>
                      <a:pt x="787" y="1178"/>
                    </a:lnTo>
                    <a:lnTo>
                      <a:pt x="0" y="341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7"/>
              <p:cNvSpPr/>
              <p:nvPr/>
            </p:nvSpPr>
            <p:spPr>
              <a:xfrm>
                <a:off x="5397840" y="5409720"/>
                <a:ext cx="181440" cy="550800"/>
              </a:xfrm>
              <a:custGeom>
                <a:avLst/>
                <a:gdLst>
                  <a:gd name="textAreaLeft" fmla="*/ 0 w 181440"/>
                  <a:gd name="textAreaRight" fmla="*/ 181800 w 181440"/>
                  <a:gd name="textAreaTop" fmla="*/ 0 h 550800"/>
                  <a:gd name="textAreaBottom" fmla="*/ 551160 h 550800"/>
                </a:gdLst>
                <a:ahLst/>
                <a:rect l="textAreaLeft" t="textAreaTop" r="textAreaRight" b="textAreaBottom"/>
                <a:pathLst>
                  <a:path w="286" h="867">
                    <a:moveTo>
                      <a:pt x="0" y="249"/>
                    </a:moveTo>
                    <a:lnTo>
                      <a:pt x="23" y="273"/>
                    </a:lnTo>
                    <a:lnTo>
                      <a:pt x="84" y="338"/>
                    </a:lnTo>
                    <a:lnTo>
                      <a:pt x="142" y="399"/>
                    </a:lnTo>
                    <a:lnTo>
                      <a:pt x="160" y="419"/>
                    </a:lnTo>
                    <a:lnTo>
                      <a:pt x="172" y="400"/>
                    </a:lnTo>
                    <a:lnTo>
                      <a:pt x="205" y="343"/>
                    </a:lnTo>
                    <a:lnTo>
                      <a:pt x="232" y="282"/>
                    </a:lnTo>
                    <a:lnTo>
                      <a:pt x="254" y="220"/>
                    </a:lnTo>
                    <a:lnTo>
                      <a:pt x="270" y="155"/>
                    </a:lnTo>
                    <a:lnTo>
                      <a:pt x="281" y="89"/>
                    </a:lnTo>
                    <a:lnTo>
                      <a:pt x="285" y="22"/>
                    </a:lnTo>
                    <a:lnTo>
                      <a:pt x="286" y="0"/>
                    </a:lnTo>
                    <a:lnTo>
                      <a:pt x="286" y="637"/>
                    </a:lnTo>
                    <a:lnTo>
                      <a:pt x="285" y="638"/>
                    </a:lnTo>
                    <a:lnTo>
                      <a:pt x="284" y="639"/>
                    </a:lnTo>
                    <a:lnTo>
                      <a:pt x="283" y="641"/>
                    </a:lnTo>
                    <a:lnTo>
                      <a:pt x="281" y="643"/>
                    </a:lnTo>
                    <a:lnTo>
                      <a:pt x="278" y="646"/>
                    </a:lnTo>
                    <a:lnTo>
                      <a:pt x="274" y="651"/>
                    </a:lnTo>
                    <a:lnTo>
                      <a:pt x="270" y="655"/>
                    </a:lnTo>
                    <a:lnTo>
                      <a:pt x="265" y="661"/>
                    </a:lnTo>
                    <a:lnTo>
                      <a:pt x="260" y="667"/>
                    </a:lnTo>
                    <a:lnTo>
                      <a:pt x="254" y="674"/>
                    </a:lnTo>
                    <a:lnTo>
                      <a:pt x="247" y="681"/>
                    </a:lnTo>
                    <a:lnTo>
                      <a:pt x="240" y="689"/>
                    </a:lnTo>
                    <a:lnTo>
                      <a:pt x="232" y="696"/>
                    </a:lnTo>
                    <a:lnTo>
                      <a:pt x="223" y="705"/>
                    </a:lnTo>
                    <a:lnTo>
                      <a:pt x="214" y="714"/>
                    </a:lnTo>
                    <a:lnTo>
                      <a:pt x="205" y="723"/>
                    </a:lnTo>
                    <a:lnTo>
                      <a:pt x="196" y="732"/>
                    </a:lnTo>
                    <a:lnTo>
                      <a:pt x="194" y="733"/>
                    </a:lnTo>
                    <a:lnTo>
                      <a:pt x="183" y="743"/>
                    </a:lnTo>
                    <a:lnTo>
                      <a:pt x="172" y="752"/>
                    </a:lnTo>
                    <a:lnTo>
                      <a:pt x="160" y="762"/>
                    </a:lnTo>
                    <a:lnTo>
                      <a:pt x="142" y="778"/>
                    </a:lnTo>
                    <a:lnTo>
                      <a:pt x="84" y="819"/>
                    </a:lnTo>
                    <a:lnTo>
                      <a:pt x="23" y="856"/>
                    </a:lnTo>
                    <a:lnTo>
                      <a:pt x="0" y="86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6"/>
              <p:cNvSpPr/>
              <p:nvPr/>
            </p:nvSpPr>
            <p:spPr>
              <a:xfrm>
                <a:off x="5579280" y="5005080"/>
                <a:ext cx="143280" cy="809280"/>
              </a:xfrm>
              <a:custGeom>
                <a:avLst/>
                <a:gdLst>
                  <a:gd name="textAreaLeft" fmla="*/ 0 w 143280"/>
                  <a:gd name="textAreaRight" fmla="*/ 143640 w 143280"/>
                  <a:gd name="textAreaTop" fmla="*/ 0 h 809280"/>
                  <a:gd name="textAreaBottom" fmla="*/ 809640 h 809280"/>
                </a:gdLst>
                <a:ahLst/>
                <a:rect l="textAreaLeft" t="textAreaTop" r="textAreaRight" b="textAreaBottom"/>
                <a:pathLst>
                  <a:path w="226" h="1274">
                    <a:moveTo>
                      <a:pt x="0" y="0"/>
                    </a:moveTo>
                    <a:lnTo>
                      <a:pt x="8" y="10"/>
                    </a:lnTo>
                    <a:lnTo>
                      <a:pt x="52" y="68"/>
                    </a:lnTo>
                    <a:lnTo>
                      <a:pt x="91" y="130"/>
                    </a:lnTo>
                    <a:lnTo>
                      <a:pt x="125" y="194"/>
                    </a:lnTo>
                    <a:lnTo>
                      <a:pt x="155" y="262"/>
                    </a:lnTo>
                    <a:lnTo>
                      <a:pt x="180" y="333"/>
                    </a:lnTo>
                    <a:lnTo>
                      <a:pt x="200" y="406"/>
                    </a:lnTo>
                    <a:lnTo>
                      <a:pt x="215" y="481"/>
                    </a:lnTo>
                    <a:lnTo>
                      <a:pt x="223" y="558"/>
                    </a:lnTo>
                    <a:lnTo>
                      <a:pt x="226" y="637"/>
                    </a:lnTo>
                    <a:lnTo>
                      <a:pt x="223" y="716"/>
                    </a:lnTo>
                    <a:lnTo>
                      <a:pt x="215" y="793"/>
                    </a:lnTo>
                    <a:lnTo>
                      <a:pt x="200" y="869"/>
                    </a:lnTo>
                    <a:lnTo>
                      <a:pt x="180" y="942"/>
                    </a:lnTo>
                    <a:lnTo>
                      <a:pt x="155" y="1012"/>
                    </a:lnTo>
                    <a:lnTo>
                      <a:pt x="125" y="1080"/>
                    </a:lnTo>
                    <a:lnTo>
                      <a:pt x="91" y="1145"/>
                    </a:lnTo>
                    <a:lnTo>
                      <a:pt x="52" y="1206"/>
                    </a:lnTo>
                    <a:lnTo>
                      <a:pt x="8" y="1264"/>
                    </a:lnTo>
                    <a:lnTo>
                      <a:pt x="0" y="127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just">
                  <a:spcBef>
                    <a:spcPts val="451"/>
                  </a:spcBef>
                  <a:spcAft>
                    <a:spcPts val="451"/>
                  </a:spcAft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14"/>
            <p:cNvSpPr/>
            <p:nvPr/>
          </p:nvSpPr>
          <p:spPr>
            <a:xfrm>
              <a:off x="4572000" y="4797360"/>
              <a:ext cx="1150920" cy="1224000"/>
            </a:xfrm>
            <a:custGeom>
              <a:avLst/>
              <a:gdLst>
                <a:gd name="textAreaLeft" fmla="*/ 0 w 1150920"/>
                <a:gd name="textAreaRight" fmla="*/ 1151280 w 115092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1812" h="1927">
                  <a:moveTo>
                    <a:pt x="0" y="964"/>
                  </a:moveTo>
                  <a:lnTo>
                    <a:pt x="4" y="885"/>
                  </a:lnTo>
                  <a:lnTo>
                    <a:pt x="12" y="808"/>
                  </a:lnTo>
                  <a:lnTo>
                    <a:pt x="27" y="733"/>
                  </a:lnTo>
                  <a:lnTo>
                    <a:pt x="47" y="660"/>
                  </a:lnTo>
                  <a:lnTo>
                    <a:pt x="72" y="589"/>
                  </a:lnTo>
                  <a:lnTo>
                    <a:pt x="102" y="521"/>
                  </a:lnTo>
                  <a:lnTo>
                    <a:pt x="136" y="457"/>
                  </a:lnTo>
                  <a:lnTo>
                    <a:pt x="175" y="395"/>
                  </a:lnTo>
                  <a:lnTo>
                    <a:pt x="219" y="337"/>
                  </a:lnTo>
                  <a:lnTo>
                    <a:pt x="266" y="283"/>
                  </a:lnTo>
                  <a:lnTo>
                    <a:pt x="317" y="232"/>
                  </a:lnTo>
                  <a:lnTo>
                    <a:pt x="371" y="186"/>
                  </a:lnTo>
                  <a:lnTo>
                    <a:pt x="429" y="145"/>
                  </a:lnTo>
                  <a:lnTo>
                    <a:pt x="490" y="108"/>
                  </a:lnTo>
                  <a:lnTo>
                    <a:pt x="554" y="76"/>
                  </a:lnTo>
                  <a:lnTo>
                    <a:pt x="620" y="49"/>
                  </a:lnTo>
                  <a:lnTo>
                    <a:pt x="689" y="28"/>
                  </a:lnTo>
                  <a:lnTo>
                    <a:pt x="760" y="13"/>
                  </a:lnTo>
                  <a:lnTo>
                    <a:pt x="832" y="3"/>
                  </a:lnTo>
                  <a:lnTo>
                    <a:pt x="906" y="0"/>
                  </a:lnTo>
                  <a:lnTo>
                    <a:pt x="981" y="3"/>
                  </a:lnTo>
                  <a:lnTo>
                    <a:pt x="1053" y="13"/>
                  </a:lnTo>
                  <a:lnTo>
                    <a:pt x="1124" y="28"/>
                  </a:lnTo>
                  <a:lnTo>
                    <a:pt x="1193" y="49"/>
                  </a:lnTo>
                  <a:lnTo>
                    <a:pt x="1259" y="76"/>
                  </a:lnTo>
                  <a:lnTo>
                    <a:pt x="1323" y="108"/>
                  </a:lnTo>
                  <a:lnTo>
                    <a:pt x="1384" y="145"/>
                  </a:lnTo>
                  <a:lnTo>
                    <a:pt x="1442" y="186"/>
                  </a:lnTo>
                  <a:lnTo>
                    <a:pt x="1496" y="232"/>
                  </a:lnTo>
                  <a:lnTo>
                    <a:pt x="1547" y="283"/>
                  </a:lnTo>
                  <a:lnTo>
                    <a:pt x="1594" y="337"/>
                  </a:lnTo>
                  <a:lnTo>
                    <a:pt x="1638" y="395"/>
                  </a:lnTo>
                  <a:lnTo>
                    <a:pt x="1677" y="457"/>
                  </a:lnTo>
                  <a:lnTo>
                    <a:pt x="1711" y="521"/>
                  </a:lnTo>
                  <a:lnTo>
                    <a:pt x="1741" y="589"/>
                  </a:lnTo>
                  <a:lnTo>
                    <a:pt x="1766" y="660"/>
                  </a:lnTo>
                  <a:lnTo>
                    <a:pt x="1786" y="733"/>
                  </a:lnTo>
                  <a:lnTo>
                    <a:pt x="1801" y="808"/>
                  </a:lnTo>
                  <a:lnTo>
                    <a:pt x="1809" y="885"/>
                  </a:lnTo>
                  <a:lnTo>
                    <a:pt x="1812" y="964"/>
                  </a:lnTo>
                  <a:lnTo>
                    <a:pt x="1809" y="1043"/>
                  </a:lnTo>
                  <a:lnTo>
                    <a:pt x="1801" y="1120"/>
                  </a:lnTo>
                  <a:lnTo>
                    <a:pt x="1786" y="1196"/>
                  </a:lnTo>
                  <a:lnTo>
                    <a:pt x="1766" y="1269"/>
                  </a:lnTo>
                  <a:lnTo>
                    <a:pt x="1741" y="1339"/>
                  </a:lnTo>
                  <a:lnTo>
                    <a:pt x="1711" y="1407"/>
                  </a:lnTo>
                  <a:lnTo>
                    <a:pt x="1677" y="1472"/>
                  </a:lnTo>
                  <a:lnTo>
                    <a:pt x="1638" y="1533"/>
                  </a:lnTo>
                  <a:lnTo>
                    <a:pt x="1594" y="1591"/>
                  </a:lnTo>
                  <a:lnTo>
                    <a:pt x="1547" y="1645"/>
                  </a:lnTo>
                  <a:lnTo>
                    <a:pt x="1496" y="1696"/>
                  </a:lnTo>
                  <a:lnTo>
                    <a:pt x="1442" y="1742"/>
                  </a:lnTo>
                  <a:lnTo>
                    <a:pt x="1384" y="1783"/>
                  </a:lnTo>
                  <a:lnTo>
                    <a:pt x="1323" y="1820"/>
                  </a:lnTo>
                  <a:lnTo>
                    <a:pt x="1259" y="1852"/>
                  </a:lnTo>
                  <a:lnTo>
                    <a:pt x="1193" y="1878"/>
                  </a:lnTo>
                  <a:lnTo>
                    <a:pt x="1124" y="1900"/>
                  </a:lnTo>
                  <a:lnTo>
                    <a:pt x="1053" y="1915"/>
                  </a:lnTo>
                  <a:lnTo>
                    <a:pt x="981" y="1924"/>
                  </a:lnTo>
                  <a:lnTo>
                    <a:pt x="906" y="1927"/>
                  </a:lnTo>
                  <a:lnTo>
                    <a:pt x="832" y="1924"/>
                  </a:lnTo>
                  <a:lnTo>
                    <a:pt x="760" y="1915"/>
                  </a:lnTo>
                  <a:lnTo>
                    <a:pt x="689" y="1900"/>
                  </a:lnTo>
                  <a:lnTo>
                    <a:pt x="620" y="1878"/>
                  </a:lnTo>
                  <a:lnTo>
                    <a:pt x="554" y="1852"/>
                  </a:lnTo>
                  <a:lnTo>
                    <a:pt x="490" y="1820"/>
                  </a:lnTo>
                  <a:lnTo>
                    <a:pt x="429" y="1783"/>
                  </a:lnTo>
                  <a:lnTo>
                    <a:pt x="371" y="1742"/>
                  </a:lnTo>
                  <a:lnTo>
                    <a:pt x="317" y="1696"/>
                  </a:lnTo>
                  <a:lnTo>
                    <a:pt x="266" y="1645"/>
                  </a:lnTo>
                  <a:lnTo>
                    <a:pt x="219" y="1591"/>
                  </a:lnTo>
                  <a:lnTo>
                    <a:pt x="175" y="1533"/>
                  </a:lnTo>
                  <a:lnTo>
                    <a:pt x="136" y="1472"/>
                  </a:lnTo>
                  <a:lnTo>
                    <a:pt x="102" y="1407"/>
                  </a:lnTo>
                  <a:lnTo>
                    <a:pt x="72" y="1339"/>
                  </a:lnTo>
                  <a:lnTo>
                    <a:pt x="47" y="1269"/>
                  </a:lnTo>
                  <a:lnTo>
                    <a:pt x="27" y="1196"/>
                  </a:lnTo>
                  <a:lnTo>
                    <a:pt x="12" y="1120"/>
                  </a:lnTo>
                  <a:lnTo>
                    <a:pt x="4" y="1043"/>
                  </a:lnTo>
                  <a:lnTo>
                    <a:pt x="0" y="96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3"/>
            <p:cNvSpPr/>
            <p:nvPr/>
          </p:nvSpPr>
          <p:spPr>
            <a:xfrm>
              <a:off x="4897440" y="4949640"/>
              <a:ext cx="681120" cy="725760"/>
            </a:xfrm>
            <a:custGeom>
              <a:avLst/>
              <a:gdLst>
                <a:gd name="textAreaLeft" fmla="*/ 0 w 681120"/>
                <a:gd name="textAreaRight" fmla="*/ 681480 w 68112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1073" h="1142">
                  <a:moveTo>
                    <a:pt x="947" y="1142"/>
                  </a:moveTo>
                  <a:lnTo>
                    <a:pt x="981" y="1085"/>
                  </a:lnTo>
                  <a:lnTo>
                    <a:pt x="1010" y="1026"/>
                  </a:lnTo>
                  <a:lnTo>
                    <a:pt x="1034" y="964"/>
                  </a:lnTo>
                  <a:lnTo>
                    <a:pt x="1052" y="900"/>
                  </a:lnTo>
                  <a:lnTo>
                    <a:pt x="1065" y="834"/>
                  </a:lnTo>
                  <a:lnTo>
                    <a:pt x="1071" y="768"/>
                  </a:lnTo>
                  <a:lnTo>
                    <a:pt x="1073" y="723"/>
                  </a:lnTo>
                  <a:lnTo>
                    <a:pt x="1070" y="664"/>
                  </a:lnTo>
                  <a:lnTo>
                    <a:pt x="1053" y="549"/>
                  </a:lnTo>
                  <a:lnTo>
                    <a:pt x="1019" y="442"/>
                  </a:lnTo>
                  <a:lnTo>
                    <a:pt x="971" y="343"/>
                  </a:lnTo>
                  <a:lnTo>
                    <a:pt x="909" y="253"/>
                  </a:lnTo>
                  <a:lnTo>
                    <a:pt x="836" y="175"/>
                  </a:lnTo>
                  <a:lnTo>
                    <a:pt x="751" y="109"/>
                  </a:lnTo>
                  <a:lnTo>
                    <a:pt x="658" y="57"/>
                  </a:lnTo>
                  <a:lnTo>
                    <a:pt x="557" y="22"/>
                  </a:lnTo>
                  <a:lnTo>
                    <a:pt x="449" y="3"/>
                  </a:lnTo>
                  <a:lnTo>
                    <a:pt x="394" y="0"/>
                  </a:lnTo>
                  <a:lnTo>
                    <a:pt x="372" y="1"/>
                  </a:lnTo>
                  <a:lnTo>
                    <a:pt x="309" y="6"/>
                  </a:lnTo>
                  <a:lnTo>
                    <a:pt x="247" y="17"/>
                  </a:lnTo>
                  <a:lnTo>
                    <a:pt x="186" y="35"/>
                  </a:lnTo>
                  <a:lnTo>
                    <a:pt x="128" y="58"/>
                  </a:lnTo>
                  <a:lnTo>
                    <a:pt x="71" y="87"/>
                  </a:lnTo>
                  <a:lnTo>
                    <a:pt x="17" y="121"/>
                  </a:lnTo>
                  <a:lnTo>
                    <a:pt x="0" y="134"/>
                  </a:lnTo>
                  <a:lnTo>
                    <a:pt x="947" y="114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4714920" y="5143320"/>
              <a:ext cx="682560" cy="72576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725760"/>
                <a:gd name="textAreaBottom" fmla="*/ 726120 h 725760"/>
              </a:gdLst>
              <a:ahLst/>
              <a:rect l="textAreaLeft" t="textAreaTop" r="textAreaRight" b="textAreaBottom"/>
              <a:pathLst>
                <a:path w="1074" h="1143">
                  <a:moveTo>
                    <a:pt x="126" y="0"/>
                  </a:moveTo>
                  <a:lnTo>
                    <a:pt x="92" y="57"/>
                  </a:lnTo>
                  <a:lnTo>
                    <a:pt x="63" y="116"/>
                  </a:lnTo>
                  <a:lnTo>
                    <a:pt x="39" y="178"/>
                  </a:lnTo>
                  <a:lnTo>
                    <a:pt x="21" y="242"/>
                  </a:lnTo>
                  <a:lnTo>
                    <a:pt x="8" y="307"/>
                  </a:lnTo>
                  <a:lnTo>
                    <a:pt x="1" y="374"/>
                  </a:lnTo>
                  <a:lnTo>
                    <a:pt x="0" y="419"/>
                  </a:lnTo>
                  <a:lnTo>
                    <a:pt x="2" y="478"/>
                  </a:lnTo>
                  <a:lnTo>
                    <a:pt x="20" y="593"/>
                  </a:lnTo>
                  <a:lnTo>
                    <a:pt x="54" y="701"/>
                  </a:lnTo>
                  <a:lnTo>
                    <a:pt x="102" y="800"/>
                  </a:lnTo>
                  <a:lnTo>
                    <a:pt x="164" y="890"/>
                  </a:lnTo>
                  <a:lnTo>
                    <a:pt x="238" y="968"/>
                  </a:lnTo>
                  <a:lnTo>
                    <a:pt x="322" y="1034"/>
                  </a:lnTo>
                  <a:lnTo>
                    <a:pt x="416" y="1086"/>
                  </a:lnTo>
                  <a:lnTo>
                    <a:pt x="517" y="1121"/>
                  </a:lnTo>
                  <a:lnTo>
                    <a:pt x="625" y="1140"/>
                  </a:lnTo>
                  <a:lnTo>
                    <a:pt x="680" y="1143"/>
                  </a:lnTo>
                  <a:lnTo>
                    <a:pt x="702" y="1142"/>
                  </a:lnTo>
                  <a:lnTo>
                    <a:pt x="764" y="1137"/>
                  </a:lnTo>
                  <a:lnTo>
                    <a:pt x="826" y="1126"/>
                  </a:lnTo>
                  <a:lnTo>
                    <a:pt x="887" y="1108"/>
                  </a:lnTo>
                  <a:lnTo>
                    <a:pt x="946" y="1085"/>
                  </a:lnTo>
                  <a:lnTo>
                    <a:pt x="1002" y="1056"/>
                  </a:lnTo>
                  <a:lnTo>
                    <a:pt x="1057" y="1021"/>
                  </a:lnTo>
                  <a:lnTo>
                    <a:pt x="1074" y="1008"/>
                  </a:lnTo>
                  <a:lnTo>
                    <a:pt x="126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Rectangle 31"/>
          <p:cNvSpPr/>
          <p:nvPr/>
        </p:nvSpPr>
        <p:spPr>
          <a:xfrm>
            <a:off x="395280" y="1770480"/>
            <a:ext cx="496872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349"/>
              </a:spcBef>
              <a:spcAft>
                <a:spcPts val="349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bombas de calor el circuito se invie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 zona de baja la presión pasa a ser de 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l manómetro de baja la presión no soporta la presión de al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275"/>
              </a:spcBef>
              <a:spcAft>
                <a:spcPts val="275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En manómetro se va a fondo de escala y deja de ser f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32"/>
          <p:cNvSpPr/>
          <p:nvPr/>
        </p:nvSpPr>
        <p:spPr>
          <a:xfrm>
            <a:off x="879480" y="5684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6"/>
          <p:cNvSpPr/>
          <p:nvPr/>
        </p:nvSpPr>
        <p:spPr>
          <a:xfrm>
            <a:off x="539640" y="721800"/>
            <a:ext cx="82803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Peligro de rotura del manómetro de 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298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0" name="Picture 7" descr="conexion bomba vacio"/>
          <p:cNvPicPr/>
          <p:nvPr/>
        </p:nvPicPr>
        <p:blipFill>
          <a:blip r:embed="rId1"/>
          <a:stretch/>
        </p:blipFill>
        <p:spPr>
          <a:xfrm>
            <a:off x="611280" y="333360"/>
            <a:ext cx="8039160" cy="557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333360" y="1915560"/>
            <a:ext cx="82803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las partes fundamentales del puente de man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r correctamente las válvulas de comunicación de las cáma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ectar correctamente las mangueras de refriger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er los riesgos de rotura del manómetro de baja por exceso de pres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lacionar temperaturas y presiones correctam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53840" y="718200"/>
            <a:ext cx="61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OBJETIVOS DE LA PRÁCTIC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8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95" name="Freeform 9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0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02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4" name="Picture 5" descr="conexion bomba vacio 2"/>
          <p:cNvPicPr/>
          <p:nvPr/>
        </p:nvPicPr>
        <p:blipFill>
          <a:blip r:embed="rId1"/>
          <a:stretch/>
        </p:blipFill>
        <p:spPr>
          <a:xfrm>
            <a:off x="611280" y="260280"/>
            <a:ext cx="7993080" cy="585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06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Rectangle 5"/>
          <p:cNvSpPr/>
          <p:nvPr/>
        </p:nvSpPr>
        <p:spPr>
          <a:xfrm>
            <a:off x="179280" y="1699560"/>
            <a:ext cx="8713800" cy="34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º Con todas las llaves cer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° Conectamos la manguera amarilla a la bomba de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° Conectamos la manguera azul, en la toma de baja presión del sistema (L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° Abrimos el mando de baja del puente de manómetros (LOW ), le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º Ponemos en marcha la bomba de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30360" indent="-63036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6° Como operación común para todos los modelos de puentes, una vez conseguido el vacío, cerraremos en primer lugar los grifos del puente, y por último desconectaremos la bomba, ya que de hacerlo al revés, y al tener la instalación con vacío, entraría aceite de la bomba a la insta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acío por la toma d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11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3" name="Picture 5" descr="1"/>
          <p:cNvPicPr/>
          <p:nvPr/>
        </p:nvPicPr>
        <p:blipFill>
          <a:blip r:embed="rId1"/>
          <a:stretch/>
        </p:blipFill>
        <p:spPr>
          <a:xfrm>
            <a:off x="1859040" y="1700280"/>
            <a:ext cx="4357440" cy="47530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6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acío por la toma d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7"/>
          <p:cNvSpPr/>
          <p:nvPr/>
        </p:nvSpPr>
        <p:spPr>
          <a:xfrm>
            <a:off x="830160" y="6292800"/>
            <a:ext cx="755820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17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7"/>
          <p:cNvSpPr/>
          <p:nvPr/>
        </p:nvSpPr>
        <p:spPr>
          <a:xfrm>
            <a:off x="324000" y="1841400"/>
            <a:ext cx="849600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° Con todas las llaves cer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° Conectamos la manguera amarilla a la botella de refriger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° Abrimos el grifo de la botella, y purgamos el aire existente en su interior, bien aflojando el extremo de la manguera conectado al manómetro, o abriendo el grifo del puente HIGH unos segun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° Por último abrimos lentamente el grifo LOW del puente, para iniciar la carga de refriger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9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arga por la toma d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22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5" descr="2"/>
          <p:cNvPicPr/>
          <p:nvPr/>
        </p:nvPicPr>
        <p:blipFill>
          <a:blip r:embed="rId1"/>
          <a:stretch/>
        </p:blipFill>
        <p:spPr>
          <a:xfrm>
            <a:off x="1971720" y="1773360"/>
            <a:ext cx="3989520" cy="4535280"/>
          </a:xfrm>
          <a:prstGeom prst="rect">
            <a:avLst/>
          </a:prstGeom>
          <a:ln w="0">
            <a:noFill/>
          </a:ln>
        </p:spPr>
      </p:pic>
      <p:sp>
        <p:nvSpPr>
          <p:cNvPr id="325" name="Freeform 6"/>
          <p:cNvSpPr/>
          <p:nvPr/>
        </p:nvSpPr>
        <p:spPr>
          <a:xfrm>
            <a:off x="830160" y="6292800"/>
            <a:ext cx="755820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4284720" y="2540520"/>
            <a:ext cx="42498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464"/>
                </a:solidFill>
                <a:latin typeface="Arial"/>
              </a:rPr>
              <a:t>Solo refrigerantes monocompue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826920" y="923400"/>
            <a:ext cx="67694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arga por la toma de b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29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Rectangle 5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acío por la toma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250920" y="1827000"/>
            <a:ext cx="8569080" cy="24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1 ° Con todas las llaves cer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2° Conectaremos la manguera amarilla a la bomba de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3° Conectamos la manguera roja a la toma de alta ( HIGH ) d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4° Abrimos el mando del manómetro HIGH. En caso de tener las mangueras de alta y baja instaladas, abriríamos los dos grifos, para efectuar el vacío por alta y por baja a la ve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5° Ponemos en marcha la bomba de vací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3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8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Vacío por la toma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9" descr="3"/>
          <p:cNvPicPr/>
          <p:nvPr/>
        </p:nvPicPr>
        <p:blipFill>
          <a:blip r:embed="rId1"/>
          <a:stretch/>
        </p:blipFill>
        <p:spPr>
          <a:xfrm>
            <a:off x="1908000" y="1700280"/>
            <a:ext cx="4265640" cy="4824360"/>
          </a:xfrm>
          <a:prstGeom prst="rect">
            <a:avLst/>
          </a:prstGeom>
          <a:ln w="0">
            <a:noFill/>
          </a:ln>
        </p:spPr>
      </p:pic>
      <p:sp>
        <p:nvSpPr>
          <p:cNvPr id="338" name="Freeform 10"/>
          <p:cNvSpPr/>
          <p:nvPr/>
        </p:nvSpPr>
        <p:spPr>
          <a:xfrm>
            <a:off x="830160" y="6292800"/>
            <a:ext cx="755820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324000" y="1885680"/>
            <a:ext cx="849600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° Con todas las llaves cerrad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° Conectaremos la manguera amarilla a la botella de refrigera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° Nos aseguraremos de que del envase salga el refrigerante en estado líqui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4° Purgaremos el aire de la manguera amaril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5° Iniciaremos la carga de refrigerante, abriendo el grifo HIGH del pu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arga por la toma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611280" y="707400"/>
            <a:ext cx="67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Carga por la toma de a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3" descr="4"/>
          <p:cNvPicPr/>
          <p:nvPr/>
        </p:nvPicPr>
        <p:blipFill>
          <a:blip r:embed="rId1"/>
          <a:stretch/>
        </p:blipFill>
        <p:spPr>
          <a:xfrm>
            <a:off x="2195640" y="1773360"/>
            <a:ext cx="3917880" cy="4535280"/>
          </a:xfrm>
          <a:prstGeom prst="rect">
            <a:avLst/>
          </a:prstGeom>
          <a:ln w="0">
            <a:noFill/>
          </a:ln>
        </p:spPr>
      </p:pic>
      <p:sp>
        <p:nvSpPr>
          <p:cNvPr id="343" name="Freeform 4"/>
          <p:cNvSpPr/>
          <p:nvPr/>
        </p:nvSpPr>
        <p:spPr>
          <a:xfrm>
            <a:off x="830160" y="6324480"/>
            <a:ext cx="7558200" cy="360"/>
          </a:xfrm>
          <a:custGeom>
            <a:avLst/>
            <a:gdLst/>
            <a:ahLst/>
            <a:rect l="l" t="t" r="r" b="b"/>
            <a:pathLst>
              <a:path w="12120" h="0">
                <a:moveTo>
                  <a:pt x="0" y="0"/>
                </a:moveTo>
                <a:lnTo>
                  <a:pt x="12120" y="0"/>
                </a:lnTo>
              </a:path>
            </a:pathLst>
          </a:custGeom>
          <a:noFill/>
          <a:ln w="38160">
            <a:solidFill>
              <a:srgbClr val="33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5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98" name="Freeform 6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7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12"/>
          <p:cNvSpPr/>
          <p:nvPr/>
        </p:nvSpPr>
        <p:spPr>
          <a:xfrm>
            <a:off x="339840" y="2112120"/>
            <a:ext cx="8264520" cy="37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Para el desarrollo de la práctica se han de realizar las operaciones indicadas siguiendo un orden establec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ctura y comprensión de la presentación de la memoria de la prá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ción de la auto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lización de la prác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anipulación de un puente de man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alibrado de este puente con un manómetro patrón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753840" y="718200"/>
            <a:ext cx="666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DESCRIPCIÓN DE LA PRÁCTIC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345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7" name="Picture 13" descr=""/>
          <p:cNvPicPr/>
          <p:nvPr/>
        </p:nvPicPr>
        <p:blipFill>
          <a:blip r:embed="rId1"/>
          <a:stretch/>
        </p:blipFill>
        <p:spPr>
          <a:xfrm>
            <a:off x="9381960" y="1386000"/>
            <a:ext cx="5054760" cy="5472000"/>
          </a:xfrm>
          <a:prstGeom prst="rect">
            <a:avLst/>
          </a:prstGeom>
          <a:ln w="0">
            <a:noFill/>
          </a:ln>
        </p:spPr>
      </p:pic>
      <p:sp>
        <p:nvSpPr>
          <p:cNvPr id="348" name="Freeform 11"/>
          <p:cNvSpPr/>
          <p:nvPr/>
        </p:nvSpPr>
        <p:spPr>
          <a:xfrm>
            <a:off x="5002200" y="4280040"/>
            <a:ext cx="2668680" cy="739800"/>
          </a:xfrm>
          <a:custGeom>
            <a:avLst/>
            <a:gdLst>
              <a:gd name="textAreaLeft" fmla="*/ 0 w 2668680"/>
              <a:gd name="textAreaRight" fmla="*/ 2669040 w 266868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4203" h="1166">
                <a:moveTo>
                  <a:pt x="4199" y="1165"/>
                </a:moveTo>
                <a:lnTo>
                  <a:pt x="4193" y="1166"/>
                </a:lnTo>
                <a:lnTo>
                  <a:pt x="113" y="64"/>
                </a:lnTo>
                <a:lnTo>
                  <a:pt x="117" y="50"/>
                </a:lnTo>
                <a:lnTo>
                  <a:pt x="99" y="45"/>
                </a:lnTo>
                <a:lnTo>
                  <a:pt x="93" y="45"/>
                </a:lnTo>
                <a:lnTo>
                  <a:pt x="89" y="50"/>
                </a:lnTo>
                <a:lnTo>
                  <a:pt x="90" y="56"/>
                </a:lnTo>
                <a:lnTo>
                  <a:pt x="95" y="60"/>
                </a:lnTo>
                <a:lnTo>
                  <a:pt x="113" y="64"/>
                </a:lnTo>
                <a:lnTo>
                  <a:pt x="100" y="115"/>
                </a:lnTo>
                <a:lnTo>
                  <a:pt x="0" y="26"/>
                </a:lnTo>
                <a:lnTo>
                  <a:pt x="131" y="0"/>
                </a:lnTo>
                <a:lnTo>
                  <a:pt x="117" y="50"/>
                </a:lnTo>
                <a:lnTo>
                  <a:pt x="4197" y="1152"/>
                </a:lnTo>
                <a:lnTo>
                  <a:pt x="4201" y="1155"/>
                </a:lnTo>
                <a:lnTo>
                  <a:pt x="4203" y="1160"/>
                </a:lnTo>
                <a:lnTo>
                  <a:pt x="4199" y="116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10"/>
          <p:cNvSpPr/>
          <p:nvPr/>
        </p:nvSpPr>
        <p:spPr>
          <a:xfrm>
            <a:off x="5002200" y="4113360"/>
            <a:ext cx="2597040" cy="75960"/>
          </a:xfrm>
          <a:custGeom>
            <a:avLst/>
            <a:gdLst>
              <a:gd name="textAreaLeft" fmla="*/ 0 w 2597040"/>
              <a:gd name="textAreaRight" fmla="*/ 2597400 w 259704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4090" h="120">
                <a:moveTo>
                  <a:pt x="4087" y="66"/>
                </a:moveTo>
                <a:lnTo>
                  <a:pt x="4082" y="68"/>
                </a:lnTo>
                <a:lnTo>
                  <a:pt x="120" y="68"/>
                </a:lnTo>
                <a:lnTo>
                  <a:pt x="120" y="120"/>
                </a:lnTo>
                <a:lnTo>
                  <a:pt x="0" y="60"/>
                </a:lnTo>
                <a:lnTo>
                  <a:pt x="120" y="0"/>
                </a:lnTo>
                <a:lnTo>
                  <a:pt x="120" y="53"/>
                </a:lnTo>
                <a:lnTo>
                  <a:pt x="100" y="53"/>
                </a:lnTo>
                <a:lnTo>
                  <a:pt x="95" y="55"/>
                </a:lnTo>
                <a:lnTo>
                  <a:pt x="92" y="60"/>
                </a:lnTo>
                <a:lnTo>
                  <a:pt x="95" y="66"/>
                </a:lnTo>
                <a:lnTo>
                  <a:pt x="100" y="68"/>
                </a:lnTo>
                <a:lnTo>
                  <a:pt x="120" y="68"/>
                </a:lnTo>
                <a:lnTo>
                  <a:pt x="120" y="53"/>
                </a:lnTo>
                <a:lnTo>
                  <a:pt x="4082" y="53"/>
                </a:lnTo>
                <a:lnTo>
                  <a:pt x="4087" y="55"/>
                </a:lnTo>
                <a:lnTo>
                  <a:pt x="4090" y="60"/>
                </a:lnTo>
                <a:lnTo>
                  <a:pt x="4087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9"/>
          <p:cNvSpPr/>
          <p:nvPr/>
        </p:nvSpPr>
        <p:spPr>
          <a:xfrm>
            <a:off x="1252440" y="3635280"/>
            <a:ext cx="2741760" cy="952560"/>
          </a:xfrm>
          <a:custGeom>
            <a:avLst/>
            <a:gdLst>
              <a:gd name="textAreaLeft" fmla="*/ 0 w 2741760"/>
              <a:gd name="textAreaRight" fmla="*/ 2742120 w 2741760"/>
              <a:gd name="textAreaTop" fmla="*/ 0 h 952560"/>
              <a:gd name="textAreaBottom" fmla="*/ 952920 h 952560"/>
            </a:gdLst>
            <a:ahLst/>
            <a:rect l="textAreaLeft" t="textAreaTop" r="textAreaRight" b="textAreaBottom"/>
            <a:pathLst>
              <a:path w="4318" h="1500">
                <a:moveTo>
                  <a:pt x="4224" y="114"/>
                </a:moveTo>
                <a:lnTo>
                  <a:pt x="4207" y="63"/>
                </a:lnTo>
                <a:lnTo>
                  <a:pt x="4225" y="57"/>
                </a:lnTo>
                <a:lnTo>
                  <a:pt x="4230" y="54"/>
                </a:lnTo>
                <a:lnTo>
                  <a:pt x="4230" y="48"/>
                </a:lnTo>
                <a:lnTo>
                  <a:pt x="4226" y="43"/>
                </a:lnTo>
                <a:lnTo>
                  <a:pt x="4220" y="43"/>
                </a:lnTo>
                <a:lnTo>
                  <a:pt x="4202" y="49"/>
                </a:lnTo>
                <a:lnTo>
                  <a:pt x="4207" y="63"/>
                </a:lnTo>
                <a:lnTo>
                  <a:pt x="10" y="1500"/>
                </a:lnTo>
                <a:lnTo>
                  <a:pt x="5" y="1500"/>
                </a:lnTo>
                <a:lnTo>
                  <a:pt x="0" y="1495"/>
                </a:lnTo>
                <a:lnTo>
                  <a:pt x="1" y="1489"/>
                </a:lnTo>
                <a:lnTo>
                  <a:pt x="5" y="1485"/>
                </a:lnTo>
                <a:lnTo>
                  <a:pt x="4202" y="49"/>
                </a:lnTo>
                <a:lnTo>
                  <a:pt x="4184" y="0"/>
                </a:lnTo>
                <a:lnTo>
                  <a:pt x="4318" y="18"/>
                </a:lnTo>
                <a:lnTo>
                  <a:pt x="4224" y="1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reeform 8"/>
          <p:cNvSpPr/>
          <p:nvPr/>
        </p:nvSpPr>
        <p:spPr>
          <a:xfrm>
            <a:off x="1397160" y="3209760"/>
            <a:ext cx="2236680" cy="114480"/>
          </a:xfrm>
          <a:custGeom>
            <a:avLst/>
            <a:gdLst>
              <a:gd name="textAreaLeft" fmla="*/ 0 w 2236680"/>
              <a:gd name="textAreaRight" fmla="*/ 2237040 w 2236680"/>
              <a:gd name="textAreaTop" fmla="*/ 0 h 114480"/>
              <a:gd name="textAreaBottom" fmla="*/ 114840 h 114480"/>
            </a:gdLst>
            <a:ahLst/>
            <a:rect l="textAreaLeft" t="textAreaTop" r="textAreaRight" b="textAreaBottom"/>
            <a:pathLst>
              <a:path w="3522" h="179">
                <a:moveTo>
                  <a:pt x="3400" y="179"/>
                </a:moveTo>
                <a:lnTo>
                  <a:pt x="3402" y="126"/>
                </a:lnTo>
                <a:lnTo>
                  <a:pt x="7" y="16"/>
                </a:lnTo>
                <a:lnTo>
                  <a:pt x="1" y="13"/>
                </a:lnTo>
                <a:lnTo>
                  <a:pt x="0" y="7"/>
                </a:lnTo>
                <a:lnTo>
                  <a:pt x="2" y="2"/>
                </a:lnTo>
                <a:lnTo>
                  <a:pt x="7" y="0"/>
                </a:lnTo>
                <a:lnTo>
                  <a:pt x="3402" y="111"/>
                </a:lnTo>
                <a:lnTo>
                  <a:pt x="3402" y="126"/>
                </a:lnTo>
                <a:lnTo>
                  <a:pt x="3422" y="127"/>
                </a:lnTo>
                <a:lnTo>
                  <a:pt x="3427" y="125"/>
                </a:lnTo>
                <a:lnTo>
                  <a:pt x="3430" y="120"/>
                </a:lnTo>
                <a:lnTo>
                  <a:pt x="3427" y="114"/>
                </a:lnTo>
                <a:lnTo>
                  <a:pt x="3422" y="112"/>
                </a:lnTo>
                <a:lnTo>
                  <a:pt x="3402" y="111"/>
                </a:lnTo>
                <a:lnTo>
                  <a:pt x="3404" y="59"/>
                </a:lnTo>
                <a:lnTo>
                  <a:pt x="3522" y="122"/>
                </a:lnTo>
                <a:lnTo>
                  <a:pt x="3400" y="17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6"/>
          <p:cNvSpPr/>
          <p:nvPr/>
        </p:nvSpPr>
        <p:spPr>
          <a:xfrm>
            <a:off x="360" y="995760"/>
            <a:ext cx="3739320" cy="65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4120" rIns="88920" tIns="558720" bIns="177840" anchor="ctr">
            <a:spAutoFit/>
          </a:bodyPr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407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z</a:t>
            </a:r>
            <a:r>
              <a:rPr b="0" lang="pt-BR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134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z</a:t>
            </a: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(ps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z</a:t>
            </a: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790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6"/>
          <p:cNvSpPr/>
          <p:nvPr/>
        </p:nvSpPr>
        <p:spPr>
          <a:xfrm>
            <a:off x="3413160" y="4367160"/>
            <a:ext cx="243000" cy="1084320"/>
          </a:xfrm>
          <a:custGeom>
            <a:avLst/>
            <a:gdLst>
              <a:gd name="textAreaLeft" fmla="*/ 0 w 243000"/>
              <a:gd name="textAreaRight" fmla="*/ 243360 w 243000"/>
              <a:gd name="textAreaTop" fmla="*/ 0 h 1084320"/>
              <a:gd name="textAreaBottom" fmla="*/ 1084680 h 1084320"/>
            </a:gdLst>
            <a:ahLst/>
            <a:rect l="textAreaLeft" t="textAreaTop" r="textAreaRight" b="textAreaBottom"/>
            <a:pathLst>
              <a:path w="382" h="1707">
                <a:moveTo>
                  <a:pt x="331" y="119"/>
                </a:moveTo>
                <a:lnTo>
                  <a:pt x="335" y="99"/>
                </a:lnTo>
                <a:lnTo>
                  <a:pt x="334" y="93"/>
                </a:lnTo>
                <a:lnTo>
                  <a:pt x="329" y="90"/>
                </a:lnTo>
                <a:lnTo>
                  <a:pt x="323" y="91"/>
                </a:lnTo>
                <a:lnTo>
                  <a:pt x="321" y="96"/>
                </a:lnTo>
                <a:lnTo>
                  <a:pt x="316" y="116"/>
                </a:lnTo>
                <a:lnTo>
                  <a:pt x="331" y="119"/>
                </a:lnTo>
                <a:lnTo>
                  <a:pt x="15" y="1701"/>
                </a:lnTo>
                <a:lnTo>
                  <a:pt x="11" y="1706"/>
                </a:lnTo>
                <a:lnTo>
                  <a:pt x="6" y="1707"/>
                </a:lnTo>
                <a:lnTo>
                  <a:pt x="1" y="1704"/>
                </a:lnTo>
                <a:lnTo>
                  <a:pt x="0" y="1698"/>
                </a:lnTo>
                <a:lnTo>
                  <a:pt x="316" y="116"/>
                </a:lnTo>
                <a:lnTo>
                  <a:pt x="264" y="105"/>
                </a:lnTo>
                <a:lnTo>
                  <a:pt x="347" y="0"/>
                </a:lnTo>
                <a:lnTo>
                  <a:pt x="382" y="129"/>
                </a:lnTo>
                <a:lnTo>
                  <a:pt x="33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7"/>
          <p:cNvSpPr/>
          <p:nvPr/>
        </p:nvSpPr>
        <p:spPr>
          <a:xfrm>
            <a:off x="68400" y="3413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9"/>
          <p:cNvSpPr/>
          <p:nvPr/>
        </p:nvSpPr>
        <p:spPr>
          <a:xfrm>
            <a:off x="70920" y="4810320"/>
            <a:ext cx="2285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fpdistancia.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z</a:t>
            </a:r>
            <a:r>
              <a:rPr b="0" lang="es-ES_tradnl" sz="1700" spc="-1" strike="noStrike">
                <a:solidFill>
                  <a:srgbClr val="cccc9a"/>
                </a:solidFill>
                <a:latin typeface="Arial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sión (b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Group 44"/>
          <p:cNvGrpSpPr/>
          <p:nvPr/>
        </p:nvGrpSpPr>
        <p:grpSpPr>
          <a:xfrm>
            <a:off x="6300720" y="1700280"/>
            <a:ext cx="3365640" cy="4103640"/>
            <a:chOff x="6300720" y="1700280"/>
            <a:chExt cx="3365640" cy="4103640"/>
          </a:xfrm>
        </p:grpSpPr>
        <p:pic>
          <p:nvPicPr>
            <p:cNvPr id="357" name="Picture 35" descr=""/>
            <p:cNvPicPr/>
            <p:nvPr/>
          </p:nvPicPr>
          <p:blipFill>
            <a:blip r:embed="rId2"/>
            <a:stretch/>
          </p:blipFill>
          <p:spPr>
            <a:xfrm>
              <a:off x="6424560" y="1700280"/>
              <a:ext cx="3200400" cy="41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8" name="Picture 36" descr="Manomettro Baja 407-1"/>
            <p:cNvPicPr/>
            <p:nvPr/>
          </p:nvPicPr>
          <p:blipFill>
            <a:blip r:embed="rId3"/>
            <a:stretch/>
          </p:blipFill>
          <p:spPr>
            <a:xfrm>
              <a:off x="6300720" y="1700280"/>
              <a:ext cx="3365640" cy="3498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9" name="Group 37"/>
            <p:cNvGrpSpPr/>
            <p:nvPr/>
          </p:nvGrpSpPr>
          <p:grpSpPr>
            <a:xfrm>
              <a:off x="6339240" y="1780920"/>
              <a:ext cx="3276000" cy="3283200"/>
              <a:chOff x="6339240" y="1780920"/>
              <a:chExt cx="3276000" cy="3283200"/>
            </a:xfrm>
          </p:grpSpPr>
          <p:pic>
            <p:nvPicPr>
              <p:cNvPr id="360" name="Picture 38" descr="Aguja manometro 1"/>
              <p:cNvPicPr/>
              <p:nvPr/>
            </p:nvPicPr>
            <p:blipFill>
              <a:blip r:embed="rId4"/>
              <a:stretch/>
            </p:blipFill>
            <p:spPr>
              <a:xfrm rot="2506200">
                <a:off x="6838560" y="2238120"/>
                <a:ext cx="2276640" cy="2368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61" name="Picture 39" descr="Eje"/>
              <p:cNvPicPr/>
              <p:nvPr/>
            </p:nvPicPr>
            <p:blipFill>
              <a:blip r:embed="rId5"/>
              <a:stretch/>
            </p:blipFill>
            <p:spPr>
              <a:xfrm rot="14304600">
                <a:off x="7806600" y="3229920"/>
                <a:ext cx="358200" cy="335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62" name="Freeform 7"/>
          <p:cNvSpPr/>
          <p:nvPr/>
        </p:nvSpPr>
        <p:spPr>
          <a:xfrm>
            <a:off x="5002200" y="3068640"/>
            <a:ext cx="2381400" cy="111240"/>
          </a:xfrm>
          <a:custGeom>
            <a:avLst/>
            <a:gdLst>
              <a:gd name="textAreaLeft" fmla="*/ 0 w 2381400"/>
              <a:gd name="textAreaRight" fmla="*/ 2381760 w 238140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750" h="176">
                <a:moveTo>
                  <a:pt x="3748" y="12"/>
                </a:moveTo>
                <a:lnTo>
                  <a:pt x="3743" y="14"/>
                </a:lnTo>
                <a:lnTo>
                  <a:pt x="120" y="123"/>
                </a:lnTo>
                <a:lnTo>
                  <a:pt x="121" y="176"/>
                </a:lnTo>
                <a:lnTo>
                  <a:pt x="0" y="120"/>
                </a:lnTo>
                <a:lnTo>
                  <a:pt x="118" y="56"/>
                </a:lnTo>
                <a:lnTo>
                  <a:pt x="119" y="108"/>
                </a:lnTo>
                <a:lnTo>
                  <a:pt x="100" y="109"/>
                </a:lnTo>
                <a:lnTo>
                  <a:pt x="95" y="111"/>
                </a:lnTo>
                <a:lnTo>
                  <a:pt x="93" y="116"/>
                </a:lnTo>
                <a:lnTo>
                  <a:pt x="95" y="122"/>
                </a:lnTo>
                <a:lnTo>
                  <a:pt x="100" y="123"/>
                </a:lnTo>
                <a:lnTo>
                  <a:pt x="120" y="123"/>
                </a:lnTo>
                <a:lnTo>
                  <a:pt x="119" y="108"/>
                </a:lnTo>
                <a:lnTo>
                  <a:pt x="3742" y="0"/>
                </a:lnTo>
                <a:lnTo>
                  <a:pt x="3748" y="1"/>
                </a:lnTo>
                <a:lnTo>
                  <a:pt x="3750" y="7"/>
                </a:lnTo>
                <a:lnTo>
                  <a:pt x="3748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45"/>
          <p:cNvSpPr/>
          <p:nvPr/>
        </p:nvSpPr>
        <p:spPr>
          <a:xfrm>
            <a:off x="539640" y="6721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Presiones y tempera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03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Rectangle 5"/>
          <p:cNvSpPr/>
          <p:nvPr/>
        </p:nvSpPr>
        <p:spPr>
          <a:xfrm>
            <a:off x="754200" y="718200"/>
            <a:ext cx="63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EL PUENTE DE MANÓMETROS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1"/>
          <a:stretch/>
        </p:blipFill>
        <p:spPr>
          <a:xfrm>
            <a:off x="5456160" y="2060640"/>
            <a:ext cx="3219480" cy="4029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4"/>
          <p:cNvSpPr/>
          <p:nvPr/>
        </p:nvSpPr>
        <p:spPr>
          <a:xfrm>
            <a:off x="395280" y="1985400"/>
            <a:ext cx="5256360" cy="44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Herramienta fundamental del frigor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presiones y temperaturas de condensación y evapo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 usa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alización del vací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l análisis de la estanque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La carga del refriger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 análisis del funcion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Font typeface="Arial"/>
              <a:buChar char="o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09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Rectangle 5"/>
          <p:cNvSpPr/>
          <p:nvPr/>
        </p:nvSpPr>
        <p:spPr>
          <a:xfrm>
            <a:off x="755640" y="47520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Partes fundamentales del puente manométrico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331920" y="1884240"/>
            <a:ext cx="8497800" cy="378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1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Rectangle 5"/>
          <p:cNvSpPr/>
          <p:nvPr/>
        </p:nvSpPr>
        <p:spPr>
          <a:xfrm>
            <a:off x="755280" y="718200"/>
            <a:ext cx="61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El manómetro de Baja Presión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7" descr=""/>
          <p:cNvPicPr/>
          <p:nvPr/>
        </p:nvPicPr>
        <p:blipFill>
          <a:blip r:embed="rId1"/>
          <a:stretch/>
        </p:blipFill>
        <p:spPr>
          <a:xfrm>
            <a:off x="5119560" y="1689120"/>
            <a:ext cx="3629160" cy="44766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21"/>
          <p:cNvSpPr/>
          <p:nvPr/>
        </p:nvSpPr>
        <p:spPr>
          <a:xfrm>
            <a:off x="479520" y="59688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8" descr="Manomettro Baja 407-1"/>
          <p:cNvPicPr/>
          <p:nvPr/>
        </p:nvPicPr>
        <p:blipFill>
          <a:blip r:embed="rId2"/>
          <a:stretch/>
        </p:blipFill>
        <p:spPr>
          <a:xfrm>
            <a:off x="4979880" y="1689120"/>
            <a:ext cx="3816360" cy="38163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9"/>
          <p:cNvGrpSpPr/>
          <p:nvPr/>
        </p:nvGrpSpPr>
        <p:grpSpPr>
          <a:xfrm>
            <a:off x="5283360" y="1970280"/>
            <a:ext cx="3195360" cy="3195360"/>
            <a:chOff x="5283360" y="1970280"/>
            <a:chExt cx="3195360" cy="3195360"/>
          </a:xfrm>
        </p:grpSpPr>
        <p:pic>
          <p:nvPicPr>
            <p:cNvPr id="121" name="Picture 30" descr="Aguja manometro 1"/>
            <p:cNvPicPr/>
            <p:nvPr/>
          </p:nvPicPr>
          <p:blipFill>
            <a:blip r:embed="rId3"/>
            <a:stretch/>
          </p:blipFill>
          <p:spPr>
            <a:xfrm rot="4438200">
              <a:off x="5589360" y="2276640"/>
              <a:ext cx="2582640" cy="258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31" descr="Eje"/>
            <p:cNvPicPr/>
            <p:nvPr/>
          </p:nvPicPr>
          <p:blipFill>
            <a:blip r:embed="rId4"/>
            <a:stretch/>
          </p:blipFill>
          <p:spPr>
            <a:xfrm rot="16236600">
              <a:off x="6707880" y="3359880"/>
              <a:ext cx="390600" cy="381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Rectangle 23"/>
          <p:cNvSpPr/>
          <p:nvPr/>
        </p:nvSpPr>
        <p:spPr>
          <a:xfrm>
            <a:off x="324000" y="1728720"/>
            <a:ext cx="460836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e conecta en el lado de baja presión del equi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de presiones positivas y nega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una escala de pres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arias de temperatura, una para cada refriger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uede romperse si se comunica con el lado de alta presión del equi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veces pierde la calibración y tiene un tornillo de recalibr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mente es de color az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6"/>
          <p:cNvSpPr/>
          <p:nvPr/>
        </p:nvSpPr>
        <p:spPr>
          <a:xfrm>
            <a:off x="4861080" y="4437000"/>
            <a:ext cx="1798560" cy="1440000"/>
          </a:xfrm>
          <a:custGeom>
            <a:avLst/>
            <a:gdLst>
              <a:gd name="textAreaLeft" fmla="*/ 0 w 1798560"/>
              <a:gd name="textAreaRight" fmla="*/ 1798920 w 1798560"/>
              <a:gd name="textAreaTop" fmla="*/ 0 h 1440000"/>
              <a:gd name="textAreaBottom" fmla="*/ 1440360 h 1440000"/>
            </a:gdLst>
            <a:ahLst/>
            <a:rect l="textAreaLeft" t="textAreaTop" r="textAreaRight" b="textAreaBottom"/>
            <a:pathLst>
              <a:path w="4307" h="2155">
                <a:moveTo>
                  <a:pt x="4307" y="0"/>
                </a:moveTo>
                <a:lnTo>
                  <a:pt x="0" y="21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7"/>
          <p:cNvSpPr/>
          <p:nvPr/>
        </p:nvSpPr>
        <p:spPr>
          <a:xfrm flipV="1">
            <a:off x="755640" y="5804640"/>
            <a:ext cx="4105440" cy="71640"/>
          </a:xfrm>
          <a:custGeom>
            <a:avLst/>
            <a:gdLst>
              <a:gd name="textAreaLeft" fmla="*/ 0 w 4105440"/>
              <a:gd name="textAreaRight" fmla="*/ 4105800 w 410544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4989" h="71437">
                <a:moveTo>
                  <a:pt x="49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8"/>
          <p:cNvSpPr/>
          <p:nvPr/>
        </p:nvSpPr>
        <p:spPr>
          <a:xfrm>
            <a:off x="4716360" y="2924280"/>
            <a:ext cx="2016360" cy="57780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5331" h="1703">
                <a:moveTo>
                  <a:pt x="5331" y="0"/>
                </a:moveTo>
                <a:lnTo>
                  <a:pt x="0" y="170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9"/>
          <p:cNvSpPr/>
          <p:nvPr/>
        </p:nvSpPr>
        <p:spPr>
          <a:xfrm flipV="1">
            <a:off x="755640" y="3429000"/>
            <a:ext cx="3960720" cy="71280"/>
          </a:xfrm>
          <a:custGeom>
            <a:avLst/>
            <a:gdLst>
              <a:gd name="textAreaLeft" fmla="*/ 0 w 3960720"/>
              <a:gd name="textAreaRight" fmla="*/ 3961080 w 396072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3062" h="71438">
                <a:moveTo>
                  <a:pt x="3062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0"/>
          <p:cNvSpPr/>
          <p:nvPr/>
        </p:nvSpPr>
        <p:spPr>
          <a:xfrm flipV="1">
            <a:off x="755640" y="4149360"/>
            <a:ext cx="5832360" cy="71280"/>
          </a:xfrm>
          <a:custGeom>
            <a:avLst/>
            <a:gdLst>
              <a:gd name="textAreaLeft" fmla="*/ 0 w 5832360"/>
              <a:gd name="textAreaRight" fmla="*/ 5832720 w 583236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5783" h="71438">
                <a:moveTo>
                  <a:pt x="0" y="0"/>
                </a:moveTo>
                <a:lnTo>
                  <a:pt x="57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1"/>
          <p:cNvSpPr/>
          <p:nvPr/>
        </p:nvSpPr>
        <p:spPr>
          <a:xfrm>
            <a:off x="6588000" y="3284640"/>
            <a:ext cx="1079640" cy="93636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936360"/>
              <a:gd name="textAreaBottom" fmla="*/ 936720 h 936360"/>
            </a:gdLst>
            <a:ahLst/>
            <a:rect l="textAreaLeft" t="textAreaTop" r="textAreaRight" b="textAreaBottom"/>
            <a:pathLst>
              <a:path w="2042" h="1588">
                <a:moveTo>
                  <a:pt x="0" y="1588"/>
                </a:moveTo>
                <a:lnTo>
                  <a:pt x="204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42"/>
          <p:cNvSpPr/>
          <p:nvPr/>
        </p:nvSpPr>
        <p:spPr>
          <a:xfrm>
            <a:off x="6588000" y="3573360"/>
            <a:ext cx="1297080" cy="647640"/>
          </a:xfrm>
          <a:custGeom>
            <a:avLst/>
            <a:gdLst>
              <a:gd name="textAreaLeft" fmla="*/ 0 w 1297080"/>
              <a:gd name="textAreaRight" fmla="*/ 1297440 w 129708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042" h="1023">
                <a:moveTo>
                  <a:pt x="0" y="1023"/>
                </a:moveTo>
                <a:lnTo>
                  <a:pt x="204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43"/>
          <p:cNvSpPr/>
          <p:nvPr/>
        </p:nvSpPr>
        <p:spPr>
          <a:xfrm>
            <a:off x="6588000" y="3789360"/>
            <a:ext cx="1513080" cy="43164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382" h="568">
                <a:moveTo>
                  <a:pt x="0" y="568"/>
                </a:moveTo>
                <a:lnTo>
                  <a:pt x="23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44"/>
          <p:cNvSpPr/>
          <p:nvPr/>
        </p:nvSpPr>
        <p:spPr>
          <a:xfrm>
            <a:off x="6588000" y="4005360"/>
            <a:ext cx="1656000" cy="21564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495" h="341">
                <a:moveTo>
                  <a:pt x="0" y="341"/>
                </a:moveTo>
                <a:lnTo>
                  <a:pt x="249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3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Picture 7" descr=""/>
          <p:cNvPicPr/>
          <p:nvPr/>
        </p:nvPicPr>
        <p:blipFill>
          <a:blip r:embed="rId1"/>
          <a:stretch/>
        </p:blipFill>
        <p:spPr>
          <a:xfrm>
            <a:off x="5148360" y="1758960"/>
            <a:ext cx="3670200" cy="44784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11"/>
          <p:cNvSpPr/>
          <p:nvPr/>
        </p:nvSpPr>
        <p:spPr>
          <a:xfrm>
            <a:off x="136440" y="7905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 algn="just">
              <a:spcBef>
                <a:spcPts val="451"/>
              </a:spcBef>
              <a:spcAft>
                <a:spcPts val="451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3"/>
          <p:cNvSpPr/>
          <p:nvPr/>
        </p:nvSpPr>
        <p:spPr>
          <a:xfrm>
            <a:off x="324000" y="1750320"/>
            <a:ext cx="4752720" cy="40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e comunica en el lado de alta presión del equi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olo mide presiones positiv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un escala de presion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Varias de temperatura, una para cada refriger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veces pierde la calibración y tiene un tornillo de recalibr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Tiene una escala de presiones más eleva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5000"/>
              </a:lnSpc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Normalmente es de color roj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4"/>
          <p:cNvSpPr/>
          <p:nvPr/>
        </p:nvSpPr>
        <p:spPr>
          <a:xfrm>
            <a:off x="754920" y="718200"/>
            <a:ext cx="607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El manómetro de Alta Presión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5" descr="Manometro de alta 407-1b"/>
          <p:cNvPicPr/>
          <p:nvPr/>
        </p:nvPicPr>
        <p:blipFill>
          <a:blip r:embed="rId2"/>
          <a:stretch/>
        </p:blipFill>
        <p:spPr>
          <a:xfrm>
            <a:off x="5003640" y="1701720"/>
            <a:ext cx="3816360" cy="381636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6"/>
          <p:cNvGrpSpPr/>
          <p:nvPr/>
        </p:nvGrpSpPr>
        <p:grpSpPr>
          <a:xfrm>
            <a:off x="5068080" y="1734120"/>
            <a:ext cx="3743280" cy="3743640"/>
            <a:chOff x="5068080" y="1734120"/>
            <a:chExt cx="3743280" cy="3743640"/>
          </a:xfrm>
        </p:grpSpPr>
        <p:pic>
          <p:nvPicPr>
            <p:cNvPr id="142" name="Picture 17" descr="Aguja manometro 1"/>
            <p:cNvPicPr/>
            <p:nvPr/>
          </p:nvPicPr>
          <p:blipFill>
            <a:blip r:embed="rId3"/>
            <a:stretch/>
          </p:blipFill>
          <p:spPr>
            <a:xfrm rot="7288800">
              <a:off x="5578200" y="2244600"/>
              <a:ext cx="2722680" cy="272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8" descr="Eje"/>
            <p:cNvPicPr/>
            <p:nvPr/>
          </p:nvPicPr>
          <p:blipFill>
            <a:blip r:embed="rId4"/>
            <a:stretch/>
          </p:blipFill>
          <p:spPr>
            <a:xfrm rot="19087200">
              <a:off x="6762240" y="3410280"/>
              <a:ext cx="411840" cy="40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Freeform 19"/>
          <p:cNvSpPr/>
          <p:nvPr/>
        </p:nvSpPr>
        <p:spPr>
          <a:xfrm>
            <a:off x="4859280" y="4437000"/>
            <a:ext cx="1728720" cy="21600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4307" h="2155">
                <a:moveTo>
                  <a:pt x="4307" y="0"/>
                </a:moveTo>
                <a:lnTo>
                  <a:pt x="0" y="215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20"/>
          <p:cNvSpPr/>
          <p:nvPr/>
        </p:nvSpPr>
        <p:spPr>
          <a:xfrm flipV="1">
            <a:off x="755640" y="4580640"/>
            <a:ext cx="4105440" cy="71640"/>
          </a:xfrm>
          <a:custGeom>
            <a:avLst/>
            <a:gdLst>
              <a:gd name="textAreaLeft" fmla="*/ 0 w 4105440"/>
              <a:gd name="textAreaRight" fmla="*/ 4105800 w 410544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4989" h="71438">
                <a:moveTo>
                  <a:pt x="4989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21"/>
          <p:cNvSpPr/>
          <p:nvPr/>
        </p:nvSpPr>
        <p:spPr>
          <a:xfrm>
            <a:off x="4716360" y="2997360"/>
            <a:ext cx="2016360" cy="215640"/>
          </a:xfrm>
          <a:custGeom>
            <a:avLst/>
            <a:gdLst>
              <a:gd name="textAreaLeft" fmla="*/ 0 w 2016360"/>
              <a:gd name="textAreaRight" fmla="*/ 2016720 w 20163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331" h="1703">
                <a:moveTo>
                  <a:pt x="5331" y="0"/>
                </a:moveTo>
                <a:lnTo>
                  <a:pt x="0" y="1703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22"/>
          <p:cNvSpPr/>
          <p:nvPr/>
        </p:nvSpPr>
        <p:spPr>
          <a:xfrm flipV="1">
            <a:off x="755640" y="3141720"/>
            <a:ext cx="3960720" cy="71280"/>
          </a:xfrm>
          <a:custGeom>
            <a:avLst/>
            <a:gdLst>
              <a:gd name="textAreaLeft" fmla="*/ 0 w 3960720"/>
              <a:gd name="textAreaRight" fmla="*/ 3961080 w 3960720"/>
              <a:gd name="textAreaTop" fmla="*/ 360 h 71280"/>
              <a:gd name="textAreaBottom" fmla="*/ 72000 h 71280"/>
            </a:gdLst>
            <a:ahLst/>
            <a:rect l="textAreaLeft" t="textAreaTop" r="textAreaRight" b="textAreaBottom"/>
            <a:pathLst>
              <a:path w="3062" h="71437">
                <a:moveTo>
                  <a:pt x="3062" y="0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reeform 23"/>
          <p:cNvSpPr/>
          <p:nvPr/>
        </p:nvSpPr>
        <p:spPr>
          <a:xfrm flipV="1">
            <a:off x="755640" y="3859560"/>
            <a:ext cx="5832360" cy="71640"/>
          </a:xfrm>
          <a:custGeom>
            <a:avLst/>
            <a:gdLst>
              <a:gd name="textAreaLeft" fmla="*/ 0 w 5832360"/>
              <a:gd name="textAreaRight" fmla="*/ 5832720 w 583236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5783" h="71438">
                <a:moveTo>
                  <a:pt x="0" y="0"/>
                </a:moveTo>
                <a:lnTo>
                  <a:pt x="5783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24"/>
          <p:cNvSpPr/>
          <p:nvPr/>
        </p:nvSpPr>
        <p:spPr>
          <a:xfrm>
            <a:off x="6516720" y="3284640"/>
            <a:ext cx="1150920" cy="649080"/>
          </a:xfrm>
          <a:custGeom>
            <a:avLst/>
            <a:gdLst>
              <a:gd name="textAreaLeft" fmla="*/ 0 w 1150920"/>
              <a:gd name="textAreaRight" fmla="*/ 1151280 w 11509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042" h="1588">
                <a:moveTo>
                  <a:pt x="0" y="1588"/>
                </a:moveTo>
                <a:lnTo>
                  <a:pt x="204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5"/>
          <p:cNvSpPr/>
          <p:nvPr/>
        </p:nvSpPr>
        <p:spPr>
          <a:xfrm>
            <a:off x="6516720" y="3500280"/>
            <a:ext cx="1440000" cy="433440"/>
          </a:xfrm>
          <a:custGeom>
            <a:avLst/>
            <a:gdLst>
              <a:gd name="textAreaLeft" fmla="*/ 0 w 1440000"/>
              <a:gd name="textAreaRight" fmla="*/ 1440360 w 1440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042" h="1023">
                <a:moveTo>
                  <a:pt x="0" y="1023"/>
                </a:moveTo>
                <a:lnTo>
                  <a:pt x="204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26"/>
          <p:cNvSpPr/>
          <p:nvPr/>
        </p:nvSpPr>
        <p:spPr>
          <a:xfrm>
            <a:off x="6443640" y="3789360"/>
            <a:ext cx="1728720" cy="14436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382" h="568">
                <a:moveTo>
                  <a:pt x="0" y="568"/>
                </a:moveTo>
                <a:lnTo>
                  <a:pt x="238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27"/>
          <p:cNvSpPr/>
          <p:nvPr/>
        </p:nvSpPr>
        <p:spPr>
          <a:xfrm flipV="1">
            <a:off x="6516720" y="3933000"/>
            <a:ext cx="1800360" cy="71640"/>
          </a:xfrm>
          <a:custGeom>
            <a:avLst/>
            <a:gdLst>
              <a:gd name="textAreaLeft" fmla="*/ 0 w 1800360"/>
              <a:gd name="textAreaRight" fmla="*/ 1800720 w 1800360"/>
              <a:gd name="textAreaTop" fmla="*/ -360 h 71640"/>
              <a:gd name="textAreaBottom" fmla="*/ 71640 h 71640"/>
            </a:gdLst>
            <a:ahLst/>
            <a:rect l="textAreaLeft" t="textAreaTop" r="textAreaRight" b="textAreaBottom"/>
            <a:pathLst>
              <a:path w="2495" h="341">
                <a:moveTo>
                  <a:pt x="0" y="341"/>
                </a:moveTo>
                <a:lnTo>
                  <a:pt x="249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pPr algn="just">
              <a:spcBef>
                <a:spcPts val="451"/>
              </a:spcBef>
              <a:spcAft>
                <a:spcPts val="451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2"/>
          <p:cNvGrpSpPr/>
          <p:nvPr/>
        </p:nvGrpSpPr>
        <p:grpSpPr>
          <a:xfrm>
            <a:off x="142920" y="179280"/>
            <a:ext cx="8851680" cy="6124680"/>
            <a:chOff x="142920" y="179280"/>
            <a:chExt cx="8851680" cy="6124680"/>
          </a:xfrm>
        </p:grpSpPr>
        <p:sp>
          <p:nvSpPr>
            <p:cNvPr id="154" name="Freeform 3"/>
            <p:cNvSpPr/>
            <p:nvPr/>
          </p:nvSpPr>
          <p:spPr>
            <a:xfrm>
              <a:off x="142920" y="179280"/>
              <a:ext cx="8851680" cy="6124680"/>
            </a:xfrm>
            <a:custGeom>
              <a:avLst/>
              <a:gdLst>
                <a:gd name="textAreaLeft" fmla="*/ 0 w 8851680"/>
                <a:gd name="textAreaRight" fmla="*/ 8852040 w 8851680"/>
                <a:gd name="textAreaTop" fmla="*/ 0 h 6124680"/>
                <a:gd name="textAreaBottom" fmla="*/ 6125040 h 6124680"/>
              </a:gdLst>
              <a:ahLst/>
              <a:rect l="textAreaLeft" t="textAreaTop" r="textAreaRight" b="textAreaBottom"/>
              <a:pathLst>
                <a:path w="13895" h="9600">
                  <a:moveTo>
                    <a:pt x="1059" y="0"/>
                  </a:moveTo>
                  <a:lnTo>
                    <a:pt x="972" y="4"/>
                  </a:lnTo>
                  <a:lnTo>
                    <a:pt x="887" y="14"/>
                  </a:lnTo>
                  <a:lnTo>
                    <a:pt x="805" y="31"/>
                  </a:lnTo>
                  <a:lnTo>
                    <a:pt x="724" y="55"/>
                  </a:lnTo>
                  <a:lnTo>
                    <a:pt x="647" y="84"/>
                  </a:lnTo>
                  <a:lnTo>
                    <a:pt x="572" y="119"/>
                  </a:lnTo>
                  <a:lnTo>
                    <a:pt x="501" y="159"/>
                  </a:lnTo>
                  <a:lnTo>
                    <a:pt x="433" y="205"/>
                  </a:lnTo>
                  <a:lnTo>
                    <a:pt x="370" y="256"/>
                  </a:lnTo>
                  <a:lnTo>
                    <a:pt x="310" y="311"/>
                  </a:lnTo>
                  <a:lnTo>
                    <a:pt x="255" y="371"/>
                  </a:lnTo>
                  <a:lnTo>
                    <a:pt x="204" y="435"/>
                  </a:lnTo>
                  <a:lnTo>
                    <a:pt x="158" y="503"/>
                  </a:lnTo>
                  <a:lnTo>
                    <a:pt x="118" y="574"/>
                  </a:lnTo>
                  <a:lnTo>
                    <a:pt x="83" y="648"/>
                  </a:lnTo>
                  <a:lnTo>
                    <a:pt x="54" y="726"/>
                  </a:lnTo>
                  <a:lnTo>
                    <a:pt x="30" y="806"/>
                  </a:lnTo>
                  <a:lnTo>
                    <a:pt x="14" y="889"/>
                  </a:lnTo>
                  <a:lnTo>
                    <a:pt x="3" y="974"/>
                  </a:lnTo>
                  <a:lnTo>
                    <a:pt x="0" y="1061"/>
                  </a:lnTo>
                  <a:lnTo>
                    <a:pt x="0" y="8540"/>
                  </a:lnTo>
                  <a:lnTo>
                    <a:pt x="3" y="8627"/>
                  </a:lnTo>
                  <a:lnTo>
                    <a:pt x="14" y="8712"/>
                  </a:lnTo>
                  <a:lnTo>
                    <a:pt x="30" y="8795"/>
                  </a:lnTo>
                  <a:lnTo>
                    <a:pt x="54" y="8875"/>
                  </a:lnTo>
                  <a:lnTo>
                    <a:pt x="83" y="8952"/>
                  </a:lnTo>
                  <a:lnTo>
                    <a:pt x="118" y="9027"/>
                  </a:lnTo>
                  <a:lnTo>
                    <a:pt x="158" y="9098"/>
                  </a:lnTo>
                  <a:lnTo>
                    <a:pt x="204" y="9166"/>
                  </a:lnTo>
                  <a:lnTo>
                    <a:pt x="255" y="9230"/>
                  </a:lnTo>
                  <a:lnTo>
                    <a:pt x="310" y="9290"/>
                  </a:lnTo>
                  <a:lnTo>
                    <a:pt x="370" y="9345"/>
                  </a:lnTo>
                  <a:lnTo>
                    <a:pt x="433" y="9396"/>
                  </a:lnTo>
                  <a:lnTo>
                    <a:pt x="501" y="9442"/>
                  </a:lnTo>
                  <a:lnTo>
                    <a:pt x="572" y="9482"/>
                  </a:lnTo>
                  <a:lnTo>
                    <a:pt x="647" y="9517"/>
                  </a:lnTo>
                  <a:lnTo>
                    <a:pt x="724" y="9546"/>
                  </a:lnTo>
                  <a:lnTo>
                    <a:pt x="805" y="9570"/>
                  </a:lnTo>
                  <a:lnTo>
                    <a:pt x="887" y="9587"/>
                  </a:lnTo>
                  <a:lnTo>
                    <a:pt x="972" y="9597"/>
                  </a:lnTo>
                  <a:lnTo>
                    <a:pt x="1059" y="9600"/>
                  </a:lnTo>
                  <a:lnTo>
                    <a:pt x="12834" y="9600"/>
                  </a:lnTo>
                  <a:lnTo>
                    <a:pt x="12921" y="9597"/>
                  </a:lnTo>
                  <a:lnTo>
                    <a:pt x="13006" y="9587"/>
                  </a:lnTo>
                  <a:lnTo>
                    <a:pt x="13089" y="9570"/>
                  </a:lnTo>
                  <a:lnTo>
                    <a:pt x="13169" y="9546"/>
                  </a:lnTo>
                  <a:lnTo>
                    <a:pt x="13247" y="9517"/>
                  </a:lnTo>
                  <a:lnTo>
                    <a:pt x="13321" y="9482"/>
                  </a:lnTo>
                  <a:lnTo>
                    <a:pt x="13392" y="9442"/>
                  </a:lnTo>
                  <a:lnTo>
                    <a:pt x="13460" y="9396"/>
                  </a:lnTo>
                  <a:lnTo>
                    <a:pt x="13524" y="9345"/>
                  </a:lnTo>
                  <a:lnTo>
                    <a:pt x="13584" y="9290"/>
                  </a:lnTo>
                  <a:lnTo>
                    <a:pt x="13639" y="9230"/>
                  </a:lnTo>
                  <a:lnTo>
                    <a:pt x="13690" y="9166"/>
                  </a:lnTo>
                  <a:lnTo>
                    <a:pt x="13736" y="9098"/>
                  </a:lnTo>
                  <a:lnTo>
                    <a:pt x="13776" y="9027"/>
                  </a:lnTo>
                  <a:lnTo>
                    <a:pt x="13811" y="8952"/>
                  </a:lnTo>
                  <a:lnTo>
                    <a:pt x="13840" y="8875"/>
                  </a:lnTo>
                  <a:lnTo>
                    <a:pt x="13864" y="8795"/>
                  </a:lnTo>
                  <a:lnTo>
                    <a:pt x="13881" y="8712"/>
                  </a:lnTo>
                  <a:lnTo>
                    <a:pt x="13891" y="8627"/>
                  </a:lnTo>
                  <a:lnTo>
                    <a:pt x="13895" y="8540"/>
                  </a:lnTo>
                  <a:lnTo>
                    <a:pt x="13895" y="1061"/>
                  </a:lnTo>
                  <a:lnTo>
                    <a:pt x="13891" y="974"/>
                  </a:lnTo>
                  <a:lnTo>
                    <a:pt x="13881" y="889"/>
                  </a:lnTo>
                  <a:lnTo>
                    <a:pt x="13864" y="806"/>
                  </a:lnTo>
                  <a:lnTo>
                    <a:pt x="13840" y="726"/>
                  </a:lnTo>
                  <a:lnTo>
                    <a:pt x="13811" y="648"/>
                  </a:lnTo>
                  <a:lnTo>
                    <a:pt x="13776" y="574"/>
                  </a:lnTo>
                  <a:lnTo>
                    <a:pt x="13736" y="503"/>
                  </a:lnTo>
                  <a:lnTo>
                    <a:pt x="13690" y="435"/>
                  </a:lnTo>
                  <a:lnTo>
                    <a:pt x="13639" y="371"/>
                  </a:lnTo>
                  <a:lnTo>
                    <a:pt x="13584" y="311"/>
                  </a:lnTo>
                  <a:lnTo>
                    <a:pt x="13524" y="256"/>
                  </a:lnTo>
                  <a:lnTo>
                    <a:pt x="13460" y="205"/>
                  </a:lnTo>
                  <a:lnTo>
                    <a:pt x="13392" y="159"/>
                  </a:lnTo>
                  <a:lnTo>
                    <a:pt x="13321" y="119"/>
                  </a:lnTo>
                  <a:lnTo>
                    <a:pt x="13247" y="84"/>
                  </a:lnTo>
                  <a:lnTo>
                    <a:pt x="13169" y="55"/>
                  </a:lnTo>
                  <a:lnTo>
                    <a:pt x="13089" y="31"/>
                  </a:lnTo>
                  <a:lnTo>
                    <a:pt x="13006" y="14"/>
                  </a:lnTo>
                  <a:lnTo>
                    <a:pt x="12921" y="4"/>
                  </a:lnTo>
                  <a:lnTo>
                    <a:pt x="12834" y="0"/>
                  </a:lnTo>
                  <a:lnTo>
                    <a:pt x="1059" y="0"/>
                  </a:lnTo>
                  <a:close/>
                </a:path>
              </a:pathLst>
            </a:custGeom>
            <a:noFill/>
            <a:ln w="2844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4"/>
            <p:cNvSpPr/>
            <p:nvPr/>
          </p:nvSpPr>
          <p:spPr>
            <a:xfrm>
              <a:off x="738360" y="1667520"/>
              <a:ext cx="7720920" cy="360"/>
            </a:xfrm>
            <a:custGeom>
              <a:avLst/>
              <a:gdLst/>
              <a:ahLst/>
              <a:rect l="l" t="t" r="r" b="b"/>
              <a:pathLst>
                <a:path w="12120" h="0">
                  <a:moveTo>
                    <a:pt x="0" y="0"/>
                  </a:moveTo>
                  <a:lnTo>
                    <a:pt x="12120" y="0"/>
                  </a:lnTo>
                </a:path>
              </a:pathLst>
            </a:custGeom>
            <a:noFill/>
            <a:ln w="38160">
              <a:solidFill>
                <a:srgbClr val="3366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just">
                <a:spcBef>
                  <a:spcPts val="451"/>
                </a:spcBef>
                <a:spcAft>
                  <a:spcPts val="451"/>
                </a:spcAft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Rectangle 5"/>
          <p:cNvSpPr/>
          <p:nvPr/>
        </p:nvSpPr>
        <p:spPr>
          <a:xfrm>
            <a:off x="752760" y="718200"/>
            <a:ext cx="64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464"/>
                </a:solidFill>
                <a:latin typeface="Arial"/>
              </a:rPr>
              <a:t>La Conexión de las Mangueras.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mangueras"/>
          <p:cNvPicPr/>
          <p:nvPr/>
        </p:nvPicPr>
        <p:blipFill>
          <a:blip r:embed="rId1"/>
          <a:stretch/>
        </p:blipFill>
        <p:spPr>
          <a:xfrm>
            <a:off x="6029280" y="1841400"/>
            <a:ext cx="2935440" cy="26672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7"/>
          <p:cNvSpPr/>
          <p:nvPr/>
        </p:nvSpPr>
        <p:spPr>
          <a:xfrm>
            <a:off x="395280" y="1996200"/>
            <a:ext cx="842472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7120" indent="-357120" algn="just"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zul en zona de baja pres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Roja en zona de alta pres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550"/>
              </a:spcBef>
              <a:spcAft>
                <a:spcPts val="550"/>
              </a:spcAft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marilla es la manguera de servicio haci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4492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omba de Vací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4492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otella de Nitrógeno N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85680" indent="-449280" algn="just"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Botella de Gas refrigera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buClr>
                <a:srgbClr val="3366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Las conexiones han de estar cerradas en los extremos las mangueras no usadas para evitar contaminaciones exteri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08:26:31Z</dcterms:created>
  <dc:creator>WinuE</dc:creator>
  <dc:description/>
  <dc:language>en-US</dc:language>
  <cp:lastModifiedBy>pc</cp:lastModifiedBy>
  <dcterms:modified xsi:type="dcterms:W3CDTF">2010-09-27T05:16:05Z</dcterms:modified>
  <cp:revision>13</cp:revision>
  <dc:subject/>
  <dc:title>Diapositiva 1</dc:title>
</cp:coreProperties>
</file>